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2C2C-A0BE-422D-BC2A-308EB22A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440-D68C-44C9-B115-A8D7B98A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CD1-0630-477D-8009-400FBE93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228-7305-4CCF-8161-186E40C1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BB3-362A-4DE0-8F31-CFFD8EE7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3DC-EE4E-43AA-89C9-10D62C51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C94-40D6-430D-8434-3DFBD35F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700-E6E1-4EC4-93E5-CB6CB224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67F-2977-4C0F-B008-9A56777A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01B3-170F-4ECE-BE06-B5B9BEF7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7D48-CADF-4AB5-A654-601E92AF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5B3-8B44-44CB-9307-E7CC2A54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DCD2-CBA5-4906-BC66-7A344A846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84872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2 is going on a field trip to Toby’s Dinner Theater.  Mrs.Tang is trying to create an algebraic expression to find out the total cost of the field trip.  The school must pay a down payment of $50 plus the cost of $30 per person.  What expression should Mrs. Tang wri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150 people are going, what is the total co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3920" y="2581200"/>
            <a:ext cx="258840" cy="196920"/>
          </a:xfrm>
          <a:custGeom>
            <a:avLst/>
            <a:gdLst/>
            <a:ahLst/>
            <a:rect l="l" t="t" r="r" b="b"/>
            <a:pathLst>
              <a:path w="720" h="546">
                <a:moveTo>
                  <a:pt x="620" y="7342"/>
                </a:moveTo>
                <a:cubicBezTo>
                  <a:pt x="852" y="7342"/>
                  <a:pt x="1497" y="7342"/>
                  <a:pt x="1265" y="7342"/>
                </a:cubicBezTo>
                <a:cubicBezTo>
                  <a:pt x="1224" y="7342"/>
                  <a:pt x="1216" y="7342"/>
                  <a:pt x="1191" y="7342"/>
                </a:cubicBezTo>
              </a:path>
              <a:path w="720" h="546">
                <a:moveTo>
                  <a:pt x="1042" y="7169"/>
                </a:moveTo>
                <a:cubicBezTo>
                  <a:pt x="1141" y="7191"/>
                  <a:pt x="1290" y="7195"/>
                  <a:pt x="1339" y="7293"/>
                </a:cubicBezTo>
                <a:cubicBezTo>
                  <a:pt x="1354" y="7322"/>
                  <a:pt x="1212" y="7573"/>
                  <a:pt x="1191" y="7615"/>
                </a:cubicBezTo>
                <a:cubicBezTo>
                  <a:pt x="1157" y="7649"/>
                  <a:pt x="1149" y="7670"/>
                  <a:pt x="1166" y="77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95360" y="2384280"/>
            <a:ext cx="222480" cy="133560"/>
          </a:xfrm>
          <a:custGeom>
            <a:avLst/>
            <a:gdLst/>
            <a:ahLst/>
            <a:rect l="l" t="t" r="r" b="b"/>
            <a:pathLst>
              <a:path w="621" h="373">
                <a:moveTo>
                  <a:pt x="6548" y="6623"/>
                </a:moveTo>
                <a:cubicBezTo>
                  <a:pt x="6473" y="6736"/>
                  <a:pt x="6475" y="6606"/>
                  <a:pt x="6400" y="6796"/>
                </a:cubicBezTo>
                <a:cubicBezTo>
                  <a:pt x="6371" y="6869"/>
                  <a:pt x="6533" y="6838"/>
                  <a:pt x="6573" y="6846"/>
                </a:cubicBezTo>
                <a:cubicBezTo>
                  <a:pt x="6587" y="6914"/>
                  <a:pt x="6512" y="6974"/>
                  <a:pt x="6424" y="6995"/>
                </a:cubicBezTo>
                <a:cubicBezTo>
                  <a:pt x="6408" y="6995"/>
                  <a:pt x="6391" y="6995"/>
                  <a:pt x="6375" y="6995"/>
                </a:cubicBezTo>
              </a:path>
              <a:path w="621" h="373">
                <a:moveTo>
                  <a:pt x="6772" y="6623"/>
                </a:moveTo>
                <a:cubicBezTo>
                  <a:pt x="6759" y="6704"/>
                  <a:pt x="6689" y="6891"/>
                  <a:pt x="6821" y="6921"/>
                </a:cubicBezTo>
                <a:cubicBezTo>
                  <a:pt x="6953" y="6951"/>
                  <a:pt x="7034" y="6809"/>
                  <a:pt x="6970" y="6697"/>
                </a:cubicBezTo>
                <a:cubicBezTo>
                  <a:pt x="6949" y="6660"/>
                  <a:pt x="6856" y="6654"/>
                  <a:pt x="6821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16080" y="2411280"/>
            <a:ext cx="4260960" cy="428760"/>
          </a:xfrm>
          <a:custGeom>
            <a:avLst/>
            <a:gdLst/>
            <a:ahLst/>
            <a:rect l="l" t="t" r="r" b="b"/>
            <a:pathLst>
              <a:path w="11833" h="1192">
                <a:moveTo>
                  <a:pt x="5879" y="7888"/>
                </a:moveTo>
                <a:cubicBezTo>
                  <a:pt x="5965" y="7862"/>
                  <a:pt x="6030" y="7822"/>
                  <a:pt x="6127" y="7813"/>
                </a:cubicBezTo>
                <a:cubicBezTo>
                  <a:pt x="6326" y="7794"/>
                  <a:pt x="6532" y="7831"/>
                  <a:pt x="6722" y="7838"/>
                </a:cubicBezTo>
                <a:cubicBezTo>
                  <a:pt x="6943" y="7846"/>
                  <a:pt x="7155" y="7810"/>
                  <a:pt x="7367" y="7764"/>
                </a:cubicBezTo>
                <a:cubicBezTo>
                  <a:pt x="7460" y="7744"/>
                  <a:pt x="7545" y="7727"/>
                  <a:pt x="7640" y="7714"/>
                </a:cubicBezTo>
                <a:cubicBezTo>
                  <a:pt x="7726" y="7702"/>
                  <a:pt x="7800" y="7693"/>
                  <a:pt x="7888" y="7689"/>
                </a:cubicBezTo>
                <a:cubicBezTo>
                  <a:pt x="8205" y="7675"/>
                  <a:pt x="8501" y="7757"/>
                  <a:pt x="8806" y="7764"/>
                </a:cubicBezTo>
                <a:cubicBezTo>
                  <a:pt x="8898" y="7766"/>
                  <a:pt x="9008" y="7747"/>
                  <a:pt x="9103" y="7739"/>
                </a:cubicBezTo>
                <a:cubicBezTo>
                  <a:pt x="9266" y="7726"/>
                  <a:pt x="9435" y="7697"/>
                  <a:pt x="9599" y="7689"/>
                </a:cubicBezTo>
                <a:cubicBezTo>
                  <a:pt x="9777" y="7681"/>
                  <a:pt x="9952" y="7697"/>
                  <a:pt x="10120" y="7714"/>
                </a:cubicBezTo>
                <a:cubicBezTo>
                  <a:pt x="10196" y="7722"/>
                  <a:pt x="10269" y="7735"/>
                  <a:pt x="10344" y="7739"/>
                </a:cubicBezTo>
                <a:cubicBezTo>
                  <a:pt x="10428" y="7743"/>
                  <a:pt x="10522" y="7755"/>
                  <a:pt x="10592" y="7764"/>
                </a:cubicBezTo>
                <a:cubicBezTo>
                  <a:pt x="10667" y="7773"/>
                  <a:pt x="10740" y="7780"/>
                  <a:pt x="10815" y="7789"/>
                </a:cubicBezTo>
                <a:cubicBezTo>
                  <a:pt x="10885" y="7797"/>
                  <a:pt x="10978" y="7829"/>
                  <a:pt x="11038" y="7838"/>
                </a:cubicBezTo>
                <a:cubicBezTo>
                  <a:pt x="11115" y="7849"/>
                  <a:pt x="11210" y="7858"/>
                  <a:pt x="11286" y="7863"/>
                </a:cubicBezTo>
                <a:cubicBezTo>
                  <a:pt x="11488" y="7875"/>
                  <a:pt x="11682" y="7845"/>
                  <a:pt x="11881" y="7838"/>
                </a:cubicBezTo>
                <a:cubicBezTo>
                  <a:pt x="12025" y="7833"/>
                  <a:pt x="12165" y="7819"/>
                  <a:pt x="12303" y="7813"/>
                </a:cubicBezTo>
                <a:cubicBezTo>
                  <a:pt x="12464" y="7806"/>
                  <a:pt x="12613" y="7836"/>
                  <a:pt x="12774" y="7838"/>
                </a:cubicBezTo>
                <a:cubicBezTo>
                  <a:pt x="12873" y="7839"/>
                  <a:pt x="12989" y="7817"/>
                  <a:pt x="13072" y="7813"/>
                </a:cubicBezTo>
                <a:cubicBezTo>
                  <a:pt x="13362" y="7800"/>
                  <a:pt x="13654" y="7828"/>
                  <a:pt x="13940" y="7789"/>
                </a:cubicBezTo>
                <a:cubicBezTo>
                  <a:pt x="14060" y="7773"/>
                  <a:pt x="14193" y="7761"/>
                  <a:pt x="14312" y="7739"/>
                </a:cubicBezTo>
                <a:cubicBezTo>
                  <a:pt x="14405" y="7721"/>
                  <a:pt x="14498" y="7668"/>
                  <a:pt x="14585" y="7665"/>
                </a:cubicBezTo>
                <a:cubicBezTo>
                  <a:pt x="14808" y="7658"/>
                  <a:pt x="15034" y="7765"/>
                  <a:pt x="15255" y="7789"/>
                </a:cubicBezTo>
                <a:cubicBezTo>
                  <a:pt x="15377" y="7803"/>
                  <a:pt x="15504" y="7806"/>
                  <a:pt x="15627" y="7813"/>
                </a:cubicBezTo>
                <a:cubicBezTo>
                  <a:pt x="15740" y="7819"/>
                  <a:pt x="15853" y="7815"/>
                  <a:pt x="15974" y="7813"/>
                </a:cubicBezTo>
                <a:cubicBezTo>
                  <a:pt x="16115" y="7811"/>
                  <a:pt x="16258" y="7810"/>
                  <a:pt x="16396" y="7789"/>
                </a:cubicBezTo>
                <a:cubicBezTo>
                  <a:pt x="16506" y="7772"/>
                  <a:pt x="16609" y="7751"/>
                  <a:pt x="16718" y="7739"/>
                </a:cubicBezTo>
                <a:cubicBezTo>
                  <a:pt x="16814" y="7728"/>
                  <a:pt x="16913" y="7717"/>
                  <a:pt x="17016" y="7714"/>
                </a:cubicBezTo>
                <a:cubicBezTo>
                  <a:pt x="17152" y="7711"/>
                  <a:pt x="17284" y="7734"/>
                  <a:pt x="17413" y="7739"/>
                </a:cubicBezTo>
                <a:cubicBezTo>
                  <a:pt x="17512" y="7743"/>
                  <a:pt x="17612" y="7736"/>
                  <a:pt x="17711" y="7739"/>
                </a:cubicBezTo>
              </a:path>
              <a:path w="11833" h="1192">
                <a:moveTo>
                  <a:pt x="8037" y="6772"/>
                </a:moveTo>
                <a:cubicBezTo>
                  <a:pt x="8079" y="6854"/>
                  <a:pt x="8062" y="6903"/>
                  <a:pt x="8062" y="6995"/>
                </a:cubicBezTo>
              </a:path>
              <a:path w="11833" h="1192">
                <a:moveTo>
                  <a:pt x="7863" y="6871"/>
                </a:moveTo>
                <a:cubicBezTo>
                  <a:pt x="7976" y="6848"/>
                  <a:pt x="8038" y="6853"/>
                  <a:pt x="8136" y="6871"/>
                </a:cubicBezTo>
                <a:cubicBezTo>
                  <a:pt x="8153" y="6871"/>
                  <a:pt x="8169" y="6871"/>
                  <a:pt x="8186" y="6871"/>
                </a:cubicBezTo>
              </a:path>
              <a:path w="11833" h="1192">
                <a:moveTo>
                  <a:pt x="14288" y="6821"/>
                </a:moveTo>
                <a:cubicBezTo>
                  <a:pt x="14318" y="6913"/>
                  <a:pt x="14363" y="6962"/>
                  <a:pt x="14461" y="6995"/>
                </a:cubicBezTo>
              </a:path>
              <a:path w="11833" h="1192">
                <a:moveTo>
                  <a:pt x="14461" y="6772"/>
                </a:moveTo>
                <a:cubicBezTo>
                  <a:pt x="14402" y="6844"/>
                  <a:pt x="14342" y="6897"/>
                  <a:pt x="14288" y="6970"/>
                </a:cubicBezTo>
                <a:cubicBezTo>
                  <a:pt x="14258" y="7000"/>
                  <a:pt x="14247" y="7014"/>
                  <a:pt x="14238" y="7045"/>
                </a:cubicBezTo>
              </a:path>
              <a:path w="11833" h="1192">
                <a:moveTo>
                  <a:pt x="12898" y="6747"/>
                </a:moveTo>
                <a:cubicBezTo>
                  <a:pt x="12995" y="6715"/>
                  <a:pt x="13151" y="6633"/>
                  <a:pt x="13146" y="6796"/>
                </a:cubicBezTo>
                <a:cubicBezTo>
                  <a:pt x="13122" y="6897"/>
                  <a:pt x="13113" y="6931"/>
                  <a:pt x="13047" y="6970"/>
                </a:cubicBezTo>
                <a:cubicBezTo>
                  <a:pt x="13031" y="6978"/>
                  <a:pt x="13014" y="6987"/>
                  <a:pt x="12998" y="6995"/>
                </a:cubicBezTo>
                <a:cubicBezTo>
                  <a:pt x="13061" y="6978"/>
                  <a:pt x="13229" y="6978"/>
                  <a:pt x="13097" y="7094"/>
                </a:cubicBezTo>
                <a:cubicBezTo>
                  <a:pt x="13032" y="7151"/>
                  <a:pt x="12939" y="7114"/>
                  <a:pt x="12874" y="7094"/>
                </a:cubicBezTo>
              </a:path>
              <a:path w="11833" h="1192">
                <a:moveTo>
                  <a:pt x="13419" y="6697"/>
                </a:moveTo>
                <a:cubicBezTo>
                  <a:pt x="13348" y="6760"/>
                  <a:pt x="13254" y="6881"/>
                  <a:pt x="13295" y="6995"/>
                </a:cubicBezTo>
                <a:cubicBezTo>
                  <a:pt x="13343" y="7127"/>
                  <a:pt x="13499" y="7057"/>
                  <a:pt x="13543" y="6970"/>
                </a:cubicBezTo>
                <a:cubicBezTo>
                  <a:pt x="13596" y="6864"/>
                  <a:pt x="13547" y="6744"/>
                  <a:pt x="13444" y="6697"/>
                </a:cubicBezTo>
                <a:cubicBezTo>
                  <a:pt x="13436" y="6697"/>
                  <a:pt x="13427" y="6697"/>
                  <a:pt x="13419" y="66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3160" y="2455920"/>
            <a:ext cx="108000" cy="214200"/>
          </a:xfrm>
          <a:custGeom>
            <a:avLst/>
            <a:gdLst/>
            <a:ahLst/>
            <a:rect l="l" t="t" r="r" b="b"/>
            <a:pathLst>
              <a:path w="299" h="597">
                <a:moveTo>
                  <a:pt x="15280" y="7069"/>
                </a:moveTo>
                <a:cubicBezTo>
                  <a:pt x="15251" y="7041"/>
                  <a:pt x="15243" y="7028"/>
                  <a:pt x="15255" y="6995"/>
                </a:cubicBezTo>
                <a:cubicBezTo>
                  <a:pt x="15238" y="7133"/>
                  <a:pt x="15255" y="7273"/>
                  <a:pt x="15255" y="7417"/>
                </a:cubicBezTo>
              </a:path>
              <a:path w="299" h="597">
                <a:moveTo>
                  <a:pt x="15255" y="6945"/>
                </a:moveTo>
                <a:cubicBezTo>
                  <a:pt x="15255" y="6837"/>
                  <a:pt x="15277" y="6881"/>
                  <a:pt x="15354" y="6846"/>
                </a:cubicBezTo>
                <a:cubicBezTo>
                  <a:pt x="15431" y="6810"/>
                  <a:pt x="15495" y="6861"/>
                  <a:pt x="15528" y="6945"/>
                </a:cubicBezTo>
                <a:cubicBezTo>
                  <a:pt x="15560" y="7027"/>
                  <a:pt x="15483" y="7039"/>
                  <a:pt x="15429" y="7069"/>
                </a:cubicBezTo>
                <a:cubicBezTo>
                  <a:pt x="15386" y="7093"/>
                  <a:pt x="15349" y="7100"/>
                  <a:pt x="15304" y="71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51080" y="3402000"/>
            <a:ext cx="312840" cy="250920"/>
          </a:xfrm>
          <a:custGeom>
            <a:avLst/>
            <a:gdLst/>
            <a:ahLst/>
            <a:rect l="l" t="t" r="r" b="b"/>
            <a:pathLst>
              <a:path w="869" h="695">
                <a:moveTo>
                  <a:pt x="6251" y="9649"/>
                </a:moveTo>
                <a:cubicBezTo>
                  <a:pt x="6433" y="9695"/>
                  <a:pt x="6608" y="9661"/>
                  <a:pt x="6796" y="9649"/>
                </a:cubicBezTo>
                <a:cubicBezTo>
                  <a:pt x="6871" y="9649"/>
                  <a:pt x="6879" y="9649"/>
                  <a:pt x="6921" y="9649"/>
                </a:cubicBezTo>
              </a:path>
              <a:path w="869" h="695">
                <a:moveTo>
                  <a:pt x="6573" y="9451"/>
                </a:moveTo>
                <a:cubicBezTo>
                  <a:pt x="6754" y="9547"/>
                  <a:pt x="6953" y="9574"/>
                  <a:pt x="7119" y="9699"/>
                </a:cubicBezTo>
                <a:cubicBezTo>
                  <a:pt x="7009" y="9854"/>
                  <a:pt x="6899" y="10005"/>
                  <a:pt x="6772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74960" y="3178080"/>
            <a:ext cx="1679400" cy="376200"/>
          </a:xfrm>
          <a:custGeom>
            <a:avLst/>
            <a:gdLst/>
            <a:ahLst/>
            <a:rect l="l" t="t" r="r" b="b"/>
            <a:pathLst>
              <a:path w="4664" h="1043">
                <a:moveTo>
                  <a:pt x="8533" y="9004"/>
                </a:moveTo>
                <a:cubicBezTo>
                  <a:pt x="8424" y="9089"/>
                  <a:pt x="8207" y="9023"/>
                  <a:pt x="8161" y="9153"/>
                </a:cubicBezTo>
                <a:cubicBezTo>
                  <a:pt x="8130" y="9240"/>
                  <a:pt x="8164" y="9358"/>
                  <a:pt x="8136" y="9451"/>
                </a:cubicBezTo>
                <a:cubicBezTo>
                  <a:pt x="8319" y="9393"/>
                  <a:pt x="8370" y="9346"/>
                  <a:pt x="8533" y="9451"/>
                </a:cubicBezTo>
                <a:cubicBezTo>
                  <a:pt x="8440" y="9657"/>
                  <a:pt x="8390" y="9767"/>
                  <a:pt x="8136" y="9748"/>
                </a:cubicBezTo>
                <a:cubicBezTo>
                  <a:pt x="8054" y="9727"/>
                  <a:pt x="8038" y="9719"/>
                  <a:pt x="7987" y="9723"/>
                </a:cubicBezTo>
              </a:path>
              <a:path w="4664" h="1043">
                <a:moveTo>
                  <a:pt x="8830" y="9178"/>
                </a:moveTo>
                <a:cubicBezTo>
                  <a:pt x="8738" y="9297"/>
                  <a:pt x="8703" y="9509"/>
                  <a:pt x="8756" y="9674"/>
                </a:cubicBezTo>
                <a:cubicBezTo>
                  <a:pt x="8773" y="9699"/>
                  <a:pt x="8789" y="9723"/>
                  <a:pt x="8806" y="9748"/>
                </a:cubicBezTo>
                <a:cubicBezTo>
                  <a:pt x="9009" y="9708"/>
                  <a:pt x="9178" y="9597"/>
                  <a:pt x="9203" y="9351"/>
                </a:cubicBezTo>
                <a:cubicBezTo>
                  <a:pt x="9223" y="9157"/>
                  <a:pt x="9015" y="9137"/>
                  <a:pt x="8880" y="9128"/>
                </a:cubicBezTo>
                <a:cubicBezTo>
                  <a:pt x="8863" y="9128"/>
                  <a:pt x="8847" y="9128"/>
                  <a:pt x="8830" y="9128"/>
                </a:cubicBezTo>
              </a:path>
              <a:path w="4664" h="1043">
                <a:moveTo>
                  <a:pt x="9699" y="9252"/>
                </a:moveTo>
                <a:cubicBezTo>
                  <a:pt x="9725" y="9398"/>
                  <a:pt x="9735" y="9549"/>
                  <a:pt x="9748" y="9699"/>
                </a:cubicBezTo>
              </a:path>
              <a:path w="4664" h="1043">
                <a:moveTo>
                  <a:pt x="9599" y="9451"/>
                </a:moveTo>
                <a:cubicBezTo>
                  <a:pt x="9722" y="9424"/>
                  <a:pt x="9847" y="9394"/>
                  <a:pt x="9971" y="9376"/>
                </a:cubicBezTo>
              </a:path>
              <a:path w="4664" h="1043">
                <a:moveTo>
                  <a:pt x="10517" y="9178"/>
                </a:moveTo>
                <a:cubicBezTo>
                  <a:pt x="10610" y="9107"/>
                  <a:pt x="10636" y="9084"/>
                  <a:pt x="10716" y="9079"/>
                </a:cubicBezTo>
                <a:cubicBezTo>
                  <a:pt x="10794" y="9217"/>
                  <a:pt x="10761" y="9272"/>
                  <a:pt x="10666" y="9376"/>
                </a:cubicBezTo>
                <a:cubicBezTo>
                  <a:pt x="10641" y="9401"/>
                  <a:pt x="10786" y="9312"/>
                  <a:pt x="10889" y="9376"/>
                </a:cubicBezTo>
                <a:cubicBezTo>
                  <a:pt x="11059" y="9482"/>
                  <a:pt x="10664" y="9681"/>
                  <a:pt x="10616" y="9699"/>
                </a:cubicBezTo>
                <a:cubicBezTo>
                  <a:pt x="10484" y="9748"/>
                  <a:pt x="10492" y="9735"/>
                  <a:pt x="10443" y="9649"/>
                </a:cubicBezTo>
              </a:path>
              <a:path w="4664" h="1043">
                <a:moveTo>
                  <a:pt x="11063" y="9128"/>
                </a:moveTo>
                <a:cubicBezTo>
                  <a:pt x="11052" y="9240"/>
                  <a:pt x="11023" y="9368"/>
                  <a:pt x="11088" y="9475"/>
                </a:cubicBezTo>
                <a:cubicBezTo>
                  <a:pt x="11183" y="9630"/>
                  <a:pt x="11343" y="9572"/>
                  <a:pt x="11410" y="9426"/>
                </a:cubicBezTo>
                <a:cubicBezTo>
                  <a:pt x="11463" y="9312"/>
                  <a:pt x="11458" y="9122"/>
                  <a:pt x="11311" y="9079"/>
                </a:cubicBezTo>
                <a:cubicBezTo>
                  <a:pt x="11204" y="9079"/>
                  <a:pt x="11162" y="9079"/>
                  <a:pt x="11088" y="9079"/>
                </a:cubicBezTo>
              </a:path>
              <a:path w="4664" h="1043">
                <a:moveTo>
                  <a:pt x="10294" y="8880"/>
                </a:moveTo>
                <a:cubicBezTo>
                  <a:pt x="10230" y="8933"/>
                  <a:pt x="10159" y="8975"/>
                  <a:pt x="10096" y="9029"/>
                </a:cubicBezTo>
                <a:cubicBezTo>
                  <a:pt x="10175" y="9047"/>
                  <a:pt x="10237" y="9054"/>
                  <a:pt x="10319" y="9054"/>
                </a:cubicBezTo>
                <a:cubicBezTo>
                  <a:pt x="10290" y="9213"/>
                  <a:pt x="10223" y="9197"/>
                  <a:pt x="10071" y="9178"/>
                </a:cubicBezTo>
              </a:path>
              <a:path w="4664" h="1043">
                <a:moveTo>
                  <a:pt x="10195" y="8855"/>
                </a:moveTo>
                <a:cubicBezTo>
                  <a:pt x="10263" y="8940"/>
                  <a:pt x="10269" y="9048"/>
                  <a:pt x="10294" y="9153"/>
                </a:cubicBezTo>
              </a:path>
              <a:path w="4664" h="1043">
                <a:moveTo>
                  <a:pt x="11807" y="8855"/>
                </a:moveTo>
                <a:cubicBezTo>
                  <a:pt x="11650" y="9013"/>
                  <a:pt x="11599" y="9189"/>
                  <a:pt x="11633" y="9426"/>
                </a:cubicBezTo>
                <a:cubicBezTo>
                  <a:pt x="11659" y="9608"/>
                  <a:pt x="11726" y="9694"/>
                  <a:pt x="11857" y="9798"/>
                </a:cubicBezTo>
                <a:cubicBezTo>
                  <a:pt x="11865" y="9806"/>
                  <a:pt x="11873" y="9815"/>
                  <a:pt x="11881" y="9823"/>
                </a:cubicBezTo>
              </a:path>
              <a:path w="4664" h="1043">
                <a:moveTo>
                  <a:pt x="12005" y="9302"/>
                </a:moveTo>
                <a:cubicBezTo>
                  <a:pt x="11959" y="9429"/>
                  <a:pt x="11981" y="9678"/>
                  <a:pt x="11981" y="9847"/>
                </a:cubicBezTo>
                <a:cubicBezTo>
                  <a:pt x="11981" y="9855"/>
                  <a:pt x="11981" y="9864"/>
                  <a:pt x="11981" y="9872"/>
                </a:cubicBezTo>
              </a:path>
              <a:path w="4664" h="1043">
                <a:moveTo>
                  <a:pt x="11931" y="9327"/>
                </a:moveTo>
                <a:cubicBezTo>
                  <a:pt x="12014" y="9274"/>
                  <a:pt x="12203" y="9183"/>
                  <a:pt x="12303" y="9277"/>
                </a:cubicBezTo>
                <a:cubicBezTo>
                  <a:pt x="12398" y="9366"/>
                  <a:pt x="12253" y="9487"/>
                  <a:pt x="12179" y="9525"/>
                </a:cubicBezTo>
                <a:cubicBezTo>
                  <a:pt x="12122" y="9544"/>
                  <a:pt x="12115" y="9553"/>
                  <a:pt x="12080" y="9550"/>
                </a:cubicBezTo>
              </a:path>
              <a:path w="4664" h="1043">
                <a:moveTo>
                  <a:pt x="12278" y="8830"/>
                </a:moveTo>
                <a:cubicBezTo>
                  <a:pt x="12406" y="8859"/>
                  <a:pt x="12509" y="8959"/>
                  <a:pt x="12576" y="9079"/>
                </a:cubicBezTo>
                <a:cubicBezTo>
                  <a:pt x="12676" y="9258"/>
                  <a:pt x="12630" y="9391"/>
                  <a:pt x="12601" y="9575"/>
                </a:cubicBezTo>
                <a:cubicBezTo>
                  <a:pt x="12589" y="9652"/>
                  <a:pt x="12568" y="9657"/>
                  <a:pt x="12502" y="96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89120" y="5402160"/>
            <a:ext cx="617760" cy="223920"/>
          </a:xfrm>
          <a:custGeom>
            <a:avLst/>
            <a:gdLst/>
            <a:ahLst/>
            <a:rect l="l" t="t" r="r" b="b"/>
            <a:pathLst>
              <a:path w="1713" h="621">
                <a:moveTo>
                  <a:pt x="7590" y="15056"/>
                </a:moveTo>
                <a:cubicBezTo>
                  <a:pt x="7510" y="15056"/>
                  <a:pt x="7348" y="15023"/>
                  <a:pt x="7293" y="15081"/>
                </a:cubicBezTo>
                <a:cubicBezTo>
                  <a:pt x="7216" y="15163"/>
                  <a:pt x="7224" y="15251"/>
                  <a:pt x="7218" y="15354"/>
                </a:cubicBezTo>
                <a:cubicBezTo>
                  <a:pt x="7290" y="15426"/>
                  <a:pt x="7415" y="15296"/>
                  <a:pt x="7541" y="15354"/>
                </a:cubicBezTo>
                <a:cubicBezTo>
                  <a:pt x="7614" y="15427"/>
                  <a:pt x="7638" y="15450"/>
                  <a:pt x="7615" y="15528"/>
                </a:cubicBezTo>
                <a:cubicBezTo>
                  <a:pt x="7450" y="15646"/>
                  <a:pt x="7382" y="15630"/>
                  <a:pt x="7193" y="15553"/>
                </a:cubicBezTo>
              </a:path>
              <a:path w="1713" h="621">
                <a:moveTo>
                  <a:pt x="8086" y="15007"/>
                </a:moveTo>
                <a:cubicBezTo>
                  <a:pt x="7940" y="15116"/>
                  <a:pt x="7821" y="15250"/>
                  <a:pt x="7838" y="15453"/>
                </a:cubicBezTo>
                <a:cubicBezTo>
                  <a:pt x="7855" y="15486"/>
                  <a:pt x="7871" y="15520"/>
                  <a:pt x="7888" y="15553"/>
                </a:cubicBezTo>
                <a:cubicBezTo>
                  <a:pt x="8096" y="15562"/>
                  <a:pt x="8340" y="15561"/>
                  <a:pt x="8310" y="15280"/>
                </a:cubicBezTo>
                <a:cubicBezTo>
                  <a:pt x="8266" y="15170"/>
                  <a:pt x="8261" y="15137"/>
                  <a:pt x="8186" y="15106"/>
                </a:cubicBezTo>
              </a:path>
              <a:path w="1713" h="621">
                <a:moveTo>
                  <a:pt x="8756" y="15180"/>
                </a:moveTo>
                <a:cubicBezTo>
                  <a:pt x="8770" y="15321"/>
                  <a:pt x="8781" y="15458"/>
                  <a:pt x="8781" y="15602"/>
                </a:cubicBezTo>
              </a:path>
              <a:path w="1713" h="621">
                <a:moveTo>
                  <a:pt x="8558" y="15429"/>
                </a:moveTo>
                <a:cubicBezTo>
                  <a:pt x="8674" y="15420"/>
                  <a:pt x="8788" y="15409"/>
                  <a:pt x="8905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67080" y="5330880"/>
            <a:ext cx="1071720" cy="403200"/>
          </a:xfrm>
          <a:custGeom>
            <a:avLst/>
            <a:gdLst/>
            <a:ahLst/>
            <a:rect l="l" t="t" r="r" b="b"/>
            <a:pathLst>
              <a:path w="2978" h="1118">
                <a:moveTo>
                  <a:pt x="9351" y="15156"/>
                </a:moveTo>
                <a:cubicBezTo>
                  <a:pt x="9403" y="15111"/>
                  <a:pt x="9669" y="14997"/>
                  <a:pt x="9674" y="15180"/>
                </a:cubicBezTo>
                <a:cubicBezTo>
                  <a:pt x="9625" y="15301"/>
                  <a:pt x="9611" y="15340"/>
                  <a:pt x="9525" y="15379"/>
                </a:cubicBezTo>
                <a:cubicBezTo>
                  <a:pt x="9508" y="15387"/>
                  <a:pt x="9492" y="15396"/>
                  <a:pt x="9475" y="15404"/>
                </a:cubicBezTo>
                <a:cubicBezTo>
                  <a:pt x="9597" y="15371"/>
                  <a:pt x="9767" y="15361"/>
                  <a:pt x="9723" y="15553"/>
                </a:cubicBezTo>
                <a:cubicBezTo>
                  <a:pt x="9692" y="15688"/>
                  <a:pt x="9453" y="15689"/>
                  <a:pt x="9376" y="15602"/>
                </a:cubicBezTo>
                <a:cubicBezTo>
                  <a:pt x="9376" y="15586"/>
                  <a:pt x="9376" y="15569"/>
                  <a:pt x="9376" y="15553"/>
                </a:cubicBezTo>
              </a:path>
              <a:path w="2978" h="1118">
                <a:moveTo>
                  <a:pt x="10096" y="15156"/>
                </a:moveTo>
                <a:cubicBezTo>
                  <a:pt x="9984" y="15386"/>
                  <a:pt x="9926" y="15477"/>
                  <a:pt x="10046" y="15701"/>
                </a:cubicBezTo>
                <a:cubicBezTo>
                  <a:pt x="10248" y="15644"/>
                  <a:pt x="10441" y="15592"/>
                  <a:pt x="10393" y="15329"/>
                </a:cubicBezTo>
                <a:cubicBezTo>
                  <a:pt x="10372" y="15215"/>
                  <a:pt x="10251" y="15236"/>
                  <a:pt x="10170" y="15230"/>
                </a:cubicBezTo>
              </a:path>
              <a:path w="2978" h="1118">
                <a:moveTo>
                  <a:pt x="10815" y="14858"/>
                </a:moveTo>
                <a:cubicBezTo>
                  <a:pt x="10692" y="15171"/>
                  <a:pt x="10550" y="15401"/>
                  <a:pt x="10691" y="15726"/>
                </a:cubicBezTo>
                <a:cubicBezTo>
                  <a:pt x="10747" y="15801"/>
                  <a:pt x="10751" y="15814"/>
                  <a:pt x="10790" y="15850"/>
                </a:cubicBezTo>
              </a:path>
              <a:path w="2978" h="1118">
                <a:moveTo>
                  <a:pt x="10914" y="15230"/>
                </a:moveTo>
                <a:cubicBezTo>
                  <a:pt x="10941" y="15256"/>
                  <a:pt x="10883" y="15522"/>
                  <a:pt x="10864" y="15652"/>
                </a:cubicBezTo>
                <a:cubicBezTo>
                  <a:pt x="10864" y="15660"/>
                  <a:pt x="10864" y="15669"/>
                  <a:pt x="10864" y="15677"/>
                </a:cubicBezTo>
              </a:path>
              <a:path w="2978" h="1118">
                <a:moveTo>
                  <a:pt x="11509" y="15205"/>
                </a:moveTo>
                <a:cubicBezTo>
                  <a:pt x="11462" y="15222"/>
                  <a:pt x="11279" y="15195"/>
                  <a:pt x="11261" y="15205"/>
                </a:cubicBezTo>
                <a:cubicBezTo>
                  <a:pt x="11217" y="15229"/>
                  <a:pt x="11197" y="15380"/>
                  <a:pt x="11187" y="15429"/>
                </a:cubicBezTo>
                <a:cubicBezTo>
                  <a:pt x="11277" y="15418"/>
                  <a:pt x="11342" y="15384"/>
                  <a:pt x="11435" y="15429"/>
                </a:cubicBezTo>
                <a:cubicBezTo>
                  <a:pt x="11559" y="15488"/>
                  <a:pt x="11521" y="15604"/>
                  <a:pt x="11410" y="15652"/>
                </a:cubicBezTo>
                <a:cubicBezTo>
                  <a:pt x="11320" y="15675"/>
                  <a:pt x="11296" y="15683"/>
                  <a:pt x="11237" y="15677"/>
                </a:cubicBezTo>
              </a:path>
              <a:path w="2978" h="1118">
                <a:moveTo>
                  <a:pt x="11708" y="15304"/>
                </a:moveTo>
                <a:cubicBezTo>
                  <a:pt x="11659" y="15427"/>
                  <a:pt x="11608" y="15533"/>
                  <a:pt x="11733" y="15627"/>
                </a:cubicBezTo>
                <a:cubicBezTo>
                  <a:pt x="11833" y="15702"/>
                  <a:pt x="12014" y="15590"/>
                  <a:pt x="12030" y="15478"/>
                </a:cubicBezTo>
                <a:cubicBezTo>
                  <a:pt x="12051" y="15332"/>
                  <a:pt x="11840" y="15314"/>
                  <a:pt x="11757" y="15304"/>
                </a:cubicBezTo>
              </a:path>
              <a:path w="2978" h="1118">
                <a:moveTo>
                  <a:pt x="12030" y="14808"/>
                </a:moveTo>
                <a:cubicBezTo>
                  <a:pt x="12203" y="15014"/>
                  <a:pt x="12343" y="15241"/>
                  <a:pt x="12328" y="15528"/>
                </a:cubicBezTo>
                <a:cubicBezTo>
                  <a:pt x="12320" y="15681"/>
                  <a:pt x="12247" y="15853"/>
                  <a:pt x="12105" y="15925"/>
                </a:cubicBezTo>
                <a:cubicBezTo>
                  <a:pt x="12097" y="15925"/>
                  <a:pt x="12088" y="15925"/>
                  <a:pt x="12080" y="159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51120" y="5796000"/>
            <a:ext cx="285840" cy="204840"/>
          </a:xfrm>
          <a:custGeom>
            <a:avLst/>
            <a:gdLst/>
            <a:ahLst/>
            <a:rect l="l" t="t" r="r" b="b"/>
            <a:pathLst>
              <a:path w="795" h="572">
                <a:moveTo>
                  <a:pt x="7838" y="16098"/>
                </a:moveTo>
                <a:cubicBezTo>
                  <a:pt x="7777" y="16098"/>
                  <a:pt x="7678" y="16066"/>
                  <a:pt x="7665" y="16148"/>
                </a:cubicBezTo>
                <a:cubicBezTo>
                  <a:pt x="7665" y="16265"/>
                  <a:pt x="7667" y="16299"/>
                  <a:pt x="7640" y="16371"/>
                </a:cubicBezTo>
                <a:cubicBezTo>
                  <a:pt x="7648" y="16379"/>
                  <a:pt x="7657" y="16388"/>
                  <a:pt x="7665" y="16396"/>
                </a:cubicBezTo>
                <a:cubicBezTo>
                  <a:pt x="7758" y="16372"/>
                  <a:pt x="7915" y="16348"/>
                  <a:pt x="7938" y="16495"/>
                </a:cubicBezTo>
                <a:cubicBezTo>
                  <a:pt x="7962" y="16652"/>
                  <a:pt x="7765" y="16626"/>
                  <a:pt x="7689" y="16619"/>
                </a:cubicBezTo>
                <a:cubicBezTo>
                  <a:pt x="7673" y="16619"/>
                  <a:pt x="7656" y="16619"/>
                  <a:pt x="7640" y="16619"/>
                </a:cubicBezTo>
              </a:path>
              <a:path w="795" h="572">
                <a:moveTo>
                  <a:pt x="8260" y="16222"/>
                </a:moveTo>
                <a:cubicBezTo>
                  <a:pt x="8150" y="16259"/>
                  <a:pt x="8026" y="16384"/>
                  <a:pt x="8012" y="16520"/>
                </a:cubicBezTo>
                <a:cubicBezTo>
                  <a:pt x="8020" y="16553"/>
                  <a:pt x="8029" y="16586"/>
                  <a:pt x="8037" y="16619"/>
                </a:cubicBezTo>
                <a:cubicBezTo>
                  <a:pt x="8164" y="16657"/>
                  <a:pt x="8397" y="16676"/>
                  <a:pt x="8434" y="16470"/>
                </a:cubicBezTo>
                <a:cubicBezTo>
                  <a:pt x="8463" y="16305"/>
                  <a:pt x="8347" y="16191"/>
                  <a:pt x="8210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70160" y="5786280"/>
            <a:ext cx="152640" cy="135000"/>
          </a:xfrm>
          <a:custGeom>
            <a:avLst/>
            <a:gdLst/>
            <a:ahLst/>
            <a:rect l="l" t="t" r="r" b="b"/>
            <a:pathLst>
              <a:path w="422" h="374">
                <a:moveTo>
                  <a:pt x="9029" y="16073"/>
                </a:moveTo>
                <a:cubicBezTo>
                  <a:pt x="8987" y="16200"/>
                  <a:pt x="8979" y="16312"/>
                  <a:pt x="8979" y="16446"/>
                </a:cubicBezTo>
              </a:path>
              <a:path w="422" h="374">
                <a:moveTo>
                  <a:pt x="8806" y="16346"/>
                </a:moveTo>
                <a:cubicBezTo>
                  <a:pt x="8952" y="16288"/>
                  <a:pt x="9073" y="16255"/>
                  <a:pt x="9227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5705640"/>
            <a:ext cx="714600" cy="331560"/>
          </a:xfrm>
          <a:custGeom>
            <a:avLst/>
            <a:gdLst/>
            <a:ahLst/>
            <a:rect l="l" t="t" r="r" b="b"/>
            <a:pathLst>
              <a:path w="1985" h="919">
                <a:moveTo>
                  <a:pt x="9947" y="15999"/>
                </a:moveTo>
                <a:cubicBezTo>
                  <a:pt x="9963" y="16131"/>
                  <a:pt x="9978" y="16220"/>
                  <a:pt x="9947" y="16346"/>
                </a:cubicBezTo>
                <a:cubicBezTo>
                  <a:pt x="9970" y="16136"/>
                  <a:pt x="10069" y="16281"/>
                  <a:pt x="10220" y="16321"/>
                </a:cubicBezTo>
                <a:cubicBezTo>
                  <a:pt x="10236" y="16321"/>
                  <a:pt x="10253" y="16321"/>
                  <a:pt x="10269" y="16321"/>
                </a:cubicBezTo>
              </a:path>
              <a:path w="1985" h="919">
                <a:moveTo>
                  <a:pt x="10244" y="15875"/>
                </a:moveTo>
                <a:cubicBezTo>
                  <a:pt x="10259" y="16083"/>
                  <a:pt x="10289" y="16286"/>
                  <a:pt x="10294" y="16495"/>
                </a:cubicBezTo>
                <a:cubicBezTo>
                  <a:pt x="10294" y="16520"/>
                  <a:pt x="10294" y="16545"/>
                  <a:pt x="10294" y="16570"/>
                </a:cubicBezTo>
              </a:path>
              <a:path w="1985" h="919">
                <a:moveTo>
                  <a:pt x="10418" y="16570"/>
                </a:moveTo>
                <a:cubicBezTo>
                  <a:pt x="10443" y="16668"/>
                  <a:pt x="10451" y="16700"/>
                  <a:pt x="10443" y="16768"/>
                </a:cubicBezTo>
              </a:path>
              <a:path w="1985" h="919">
                <a:moveTo>
                  <a:pt x="10864" y="15925"/>
                </a:moveTo>
                <a:cubicBezTo>
                  <a:pt x="10693" y="15986"/>
                  <a:pt x="10725" y="15997"/>
                  <a:pt x="10666" y="16173"/>
                </a:cubicBezTo>
                <a:cubicBezTo>
                  <a:pt x="10658" y="16189"/>
                  <a:pt x="10649" y="16206"/>
                  <a:pt x="10641" y="16222"/>
                </a:cubicBezTo>
                <a:cubicBezTo>
                  <a:pt x="10714" y="16174"/>
                  <a:pt x="10844" y="16044"/>
                  <a:pt x="10914" y="16173"/>
                </a:cubicBezTo>
                <a:cubicBezTo>
                  <a:pt x="10993" y="16320"/>
                  <a:pt x="10893" y="16446"/>
                  <a:pt x="10740" y="16446"/>
                </a:cubicBezTo>
                <a:cubicBezTo>
                  <a:pt x="10658" y="16425"/>
                  <a:pt x="10625" y="16434"/>
                  <a:pt x="10641" y="16371"/>
                </a:cubicBezTo>
              </a:path>
              <a:path w="1985" h="919">
                <a:moveTo>
                  <a:pt x="11237" y="15949"/>
                </a:moveTo>
                <a:cubicBezTo>
                  <a:pt x="11124" y="16043"/>
                  <a:pt x="10974" y="16178"/>
                  <a:pt x="11063" y="16346"/>
                </a:cubicBezTo>
                <a:cubicBezTo>
                  <a:pt x="11157" y="16523"/>
                  <a:pt x="11418" y="16331"/>
                  <a:pt x="11435" y="16197"/>
                </a:cubicBezTo>
                <a:cubicBezTo>
                  <a:pt x="11413" y="16069"/>
                  <a:pt x="11416" y="16036"/>
                  <a:pt x="11361" y="15974"/>
                </a:cubicBezTo>
              </a:path>
              <a:path w="1985" h="919">
                <a:moveTo>
                  <a:pt x="11757" y="15850"/>
                </a:moveTo>
                <a:cubicBezTo>
                  <a:pt x="11663" y="16027"/>
                  <a:pt x="11611" y="16120"/>
                  <a:pt x="11633" y="16321"/>
                </a:cubicBezTo>
                <a:cubicBezTo>
                  <a:pt x="11788" y="16368"/>
                  <a:pt x="11890" y="16325"/>
                  <a:pt x="11931" y="16148"/>
                </a:cubicBezTo>
                <a:cubicBezTo>
                  <a:pt x="11968" y="15988"/>
                  <a:pt x="11895" y="15993"/>
                  <a:pt x="11782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03720" y="6081840"/>
            <a:ext cx="911160" cy="312480"/>
          </a:xfrm>
          <a:custGeom>
            <a:avLst/>
            <a:gdLst/>
            <a:ahLst/>
            <a:rect l="l" t="t" r="r" b="b"/>
            <a:pathLst>
              <a:path w="2531" h="869">
                <a:moveTo>
                  <a:pt x="9252" y="17190"/>
                </a:moveTo>
                <a:cubicBezTo>
                  <a:pt x="9252" y="17328"/>
                  <a:pt x="9235" y="17411"/>
                  <a:pt x="9178" y="17537"/>
                </a:cubicBezTo>
                <a:cubicBezTo>
                  <a:pt x="9322" y="17516"/>
                  <a:pt x="9458" y="17460"/>
                  <a:pt x="9599" y="17413"/>
                </a:cubicBezTo>
              </a:path>
              <a:path w="2531" h="869">
                <a:moveTo>
                  <a:pt x="9599" y="16892"/>
                </a:moveTo>
                <a:cubicBezTo>
                  <a:pt x="9599" y="17091"/>
                  <a:pt x="9621" y="17287"/>
                  <a:pt x="9624" y="17487"/>
                </a:cubicBezTo>
                <a:cubicBezTo>
                  <a:pt x="9624" y="17622"/>
                  <a:pt x="9642" y="17644"/>
                  <a:pt x="9599" y="17711"/>
                </a:cubicBezTo>
              </a:path>
              <a:path w="2531" h="869">
                <a:moveTo>
                  <a:pt x="9947" y="17587"/>
                </a:moveTo>
                <a:cubicBezTo>
                  <a:pt x="9924" y="17651"/>
                  <a:pt x="9905" y="17696"/>
                  <a:pt x="9897" y="17760"/>
                </a:cubicBezTo>
              </a:path>
              <a:path w="2531" h="869">
                <a:moveTo>
                  <a:pt x="10368" y="17066"/>
                </a:moveTo>
                <a:cubicBezTo>
                  <a:pt x="10330" y="17072"/>
                  <a:pt x="10161" y="17095"/>
                  <a:pt x="10145" y="17115"/>
                </a:cubicBezTo>
                <a:cubicBezTo>
                  <a:pt x="10097" y="17174"/>
                  <a:pt x="10077" y="17269"/>
                  <a:pt x="10046" y="17338"/>
                </a:cubicBezTo>
                <a:cubicBezTo>
                  <a:pt x="10147" y="17327"/>
                  <a:pt x="10300" y="17242"/>
                  <a:pt x="10393" y="17314"/>
                </a:cubicBezTo>
                <a:cubicBezTo>
                  <a:pt x="10401" y="17339"/>
                  <a:pt x="10410" y="17363"/>
                  <a:pt x="10418" y="17388"/>
                </a:cubicBezTo>
                <a:cubicBezTo>
                  <a:pt x="10303" y="17540"/>
                  <a:pt x="10260" y="17559"/>
                  <a:pt x="10071" y="17537"/>
                </a:cubicBezTo>
              </a:path>
              <a:path w="2531" h="869">
                <a:moveTo>
                  <a:pt x="10988" y="17016"/>
                </a:moveTo>
                <a:cubicBezTo>
                  <a:pt x="10936" y="17037"/>
                  <a:pt x="10693" y="17040"/>
                  <a:pt x="10691" y="17041"/>
                </a:cubicBezTo>
                <a:cubicBezTo>
                  <a:pt x="10645" y="17078"/>
                  <a:pt x="10646" y="17210"/>
                  <a:pt x="10641" y="17264"/>
                </a:cubicBezTo>
                <a:cubicBezTo>
                  <a:pt x="10749" y="17252"/>
                  <a:pt x="10884" y="17173"/>
                  <a:pt x="10988" y="17239"/>
                </a:cubicBezTo>
                <a:cubicBezTo>
                  <a:pt x="11005" y="17264"/>
                  <a:pt x="11021" y="17289"/>
                  <a:pt x="11038" y="17314"/>
                </a:cubicBezTo>
                <a:cubicBezTo>
                  <a:pt x="10998" y="17475"/>
                  <a:pt x="10893" y="17511"/>
                  <a:pt x="10716" y="17487"/>
                </a:cubicBezTo>
                <a:cubicBezTo>
                  <a:pt x="10699" y="17479"/>
                  <a:pt x="10683" y="17470"/>
                  <a:pt x="10666" y="17462"/>
                </a:cubicBezTo>
              </a:path>
              <a:path w="2531" h="869">
                <a:moveTo>
                  <a:pt x="11509" y="16966"/>
                </a:moveTo>
                <a:cubicBezTo>
                  <a:pt x="11406" y="17070"/>
                  <a:pt x="11321" y="17201"/>
                  <a:pt x="11336" y="17363"/>
                </a:cubicBezTo>
                <a:cubicBezTo>
                  <a:pt x="11344" y="17388"/>
                  <a:pt x="11353" y="17413"/>
                  <a:pt x="11361" y="17438"/>
                </a:cubicBezTo>
                <a:cubicBezTo>
                  <a:pt x="11526" y="17417"/>
                  <a:pt x="11668" y="17349"/>
                  <a:pt x="11708" y="17165"/>
                </a:cubicBezTo>
                <a:cubicBezTo>
                  <a:pt x="11749" y="16976"/>
                  <a:pt x="11581" y="16950"/>
                  <a:pt x="11460" y="169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96080" y="6099120"/>
            <a:ext cx="884160" cy="419040"/>
          </a:xfrm>
          <a:custGeom>
            <a:avLst/>
            <a:gdLst/>
            <a:ahLst/>
            <a:rect l="l" t="t" r="r" b="b"/>
            <a:pathLst>
              <a:path w="2457" h="1166">
                <a:moveTo>
                  <a:pt x="21332" y="17090"/>
                </a:moveTo>
                <a:cubicBezTo>
                  <a:pt x="21298" y="17005"/>
                  <a:pt x="21297" y="17006"/>
                  <a:pt x="21233" y="16942"/>
                </a:cubicBezTo>
                <a:cubicBezTo>
                  <a:pt x="21055" y="16995"/>
                  <a:pt x="20956" y="17164"/>
                  <a:pt x="20886" y="17338"/>
                </a:cubicBezTo>
                <a:cubicBezTo>
                  <a:pt x="20886" y="17355"/>
                  <a:pt x="20886" y="17371"/>
                  <a:pt x="20886" y="17388"/>
                </a:cubicBezTo>
                <a:cubicBezTo>
                  <a:pt x="21060" y="17363"/>
                  <a:pt x="21265" y="17332"/>
                  <a:pt x="21208" y="17090"/>
                </a:cubicBezTo>
                <a:cubicBezTo>
                  <a:pt x="21160" y="17019"/>
                  <a:pt x="21147" y="16996"/>
                  <a:pt x="21084" y="16991"/>
                </a:cubicBezTo>
              </a:path>
              <a:path w="2457" h="1166">
                <a:moveTo>
                  <a:pt x="20513" y="17140"/>
                </a:moveTo>
                <a:cubicBezTo>
                  <a:pt x="20374" y="17234"/>
                  <a:pt x="20278" y="17376"/>
                  <a:pt x="20290" y="17562"/>
                </a:cubicBezTo>
                <a:cubicBezTo>
                  <a:pt x="20298" y="17578"/>
                  <a:pt x="20307" y="17595"/>
                  <a:pt x="20315" y="17611"/>
                </a:cubicBezTo>
                <a:cubicBezTo>
                  <a:pt x="20450" y="17611"/>
                  <a:pt x="20656" y="17500"/>
                  <a:pt x="20662" y="17314"/>
                </a:cubicBezTo>
                <a:cubicBezTo>
                  <a:pt x="20665" y="17211"/>
                  <a:pt x="20526" y="17180"/>
                  <a:pt x="20464" y="17165"/>
                </a:cubicBezTo>
              </a:path>
              <a:path w="2457" h="1166">
                <a:moveTo>
                  <a:pt x="20017" y="17140"/>
                </a:moveTo>
                <a:cubicBezTo>
                  <a:pt x="19977" y="17151"/>
                  <a:pt x="19628" y="17252"/>
                  <a:pt x="19621" y="17264"/>
                </a:cubicBezTo>
                <a:cubicBezTo>
                  <a:pt x="19645" y="17337"/>
                  <a:pt x="19653" y="17361"/>
                  <a:pt x="19645" y="17413"/>
                </a:cubicBezTo>
                <a:cubicBezTo>
                  <a:pt x="19736" y="17405"/>
                  <a:pt x="19985" y="17329"/>
                  <a:pt x="19893" y="17537"/>
                </a:cubicBezTo>
                <a:cubicBezTo>
                  <a:pt x="19830" y="17678"/>
                  <a:pt x="19602" y="17742"/>
                  <a:pt x="19496" y="17636"/>
                </a:cubicBezTo>
                <a:cubicBezTo>
                  <a:pt x="19496" y="17628"/>
                  <a:pt x="19496" y="17619"/>
                  <a:pt x="19496" y="17611"/>
                </a:cubicBezTo>
              </a:path>
              <a:path w="2457" h="1166">
                <a:moveTo>
                  <a:pt x="18976" y="17239"/>
                </a:moveTo>
                <a:cubicBezTo>
                  <a:pt x="18944" y="17323"/>
                  <a:pt x="18909" y="17404"/>
                  <a:pt x="18876" y="17487"/>
                </a:cubicBezTo>
                <a:cubicBezTo>
                  <a:pt x="18967" y="17464"/>
                  <a:pt x="19060" y="17435"/>
                  <a:pt x="19149" y="17413"/>
                </a:cubicBezTo>
              </a:path>
              <a:path w="2457" h="1166">
                <a:moveTo>
                  <a:pt x="19199" y="16991"/>
                </a:moveTo>
                <a:cubicBezTo>
                  <a:pt x="19199" y="17151"/>
                  <a:pt x="19178" y="17282"/>
                  <a:pt x="19149" y="17438"/>
                </a:cubicBezTo>
                <a:cubicBezTo>
                  <a:pt x="19130" y="17537"/>
                  <a:pt x="19100" y="17635"/>
                  <a:pt x="19100" y="17735"/>
                </a:cubicBezTo>
              </a:path>
              <a:path w="2457" h="1166">
                <a:moveTo>
                  <a:pt x="19422" y="17760"/>
                </a:moveTo>
                <a:cubicBezTo>
                  <a:pt x="19410" y="17925"/>
                  <a:pt x="19400" y="18016"/>
                  <a:pt x="19273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00880" y="6153120"/>
            <a:ext cx="98280" cy="169920"/>
          </a:xfrm>
          <a:custGeom>
            <a:avLst/>
            <a:gdLst/>
            <a:ahLst/>
            <a:rect l="l" t="t" r="r" b="b"/>
            <a:pathLst>
              <a:path w="274" h="473">
                <a:moveTo>
                  <a:pt x="18281" y="17214"/>
                </a:moveTo>
                <a:cubicBezTo>
                  <a:pt x="18201" y="17278"/>
                  <a:pt x="18130" y="17340"/>
                  <a:pt x="18058" y="17413"/>
                </a:cubicBezTo>
                <a:cubicBezTo>
                  <a:pt x="18158" y="17413"/>
                  <a:pt x="18235" y="17416"/>
                  <a:pt x="18331" y="17438"/>
                </a:cubicBezTo>
                <a:cubicBezTo>
                  <a:pt x="18317" y="17461"/>
                  <a:pt x="18161" y="17648"/>
                  <a:pt x="18107" y="17562"/>
                </a:cubicBezTo>
                <a:cubicBezTo>
                  <a:pt x="18099" y="17529"/>
                  <a:pt x="18091" y="17495"/>
                  <a:pt x="18083" y="17462"/>
                </a:cubicBezTo>
              </a:path>
              <a:path w="274" h="473">
                <a:moveTo>
                  <a:pt x="18256" y="17090"/>
                </a:moveTo>
                <a:cubicBezTo>
                  <a:pt x="18268" y="17231"/>
                  <a:pt x="18295" y="17352"/>
                  <a:pt x="18281" y="17487"/>
                </a:cubicBezTo>
                <a:cubicBezTo>
                  <a:pt x="18281" y="17495"/>
                  <a:pt x="18281" y="17504"/>
                  <a:pt x="18281" y="175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5027760"/>
            <a:ext cx="17640" cy="250560"/>
          </a:xfrm>
          <a:custGeom>
            <a:avLst/>
            <a:gdLst/>
            <a:ahLst/>
            <a:rect l="l" t="t" r="r" b="b"/>
            <a:pathLst>
              <a:path w="50" h="696">
                <a:moveTo>
                  <a:pt x="19472" y="13965"/>
                </a:moveTo>
                <a:cubicBezTo>
                  <a:pt x="19514" y="14168"/>
                  <a:pt x="19516" y="14397"/>
                  <a:pt x="19521" y="14610"/>
                </a:cubicBezTo>
                <a:cubicBezTo>
                  <a:pt x="19521" y="14627"/>
                  <a:pt x="19521" y="14643"/>
                  <a:pt x="19521" y="146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43840" y="5062680"/>
            <a:ext cx="160200" cy="215640"/>
          </a:xfrm>
          <a:custGeom>
            <a:avLst/>
            <a:gdLst/>
            <a:ahLst/>
            <a:rect l="l" t="t" r="r" b="b"/>
            <a:pathLst>
              <a:path w="447" h="597">
                <a:moveTo>
                  <a:pt x="20166" y="14064"/>
                </a:moveTo>
                <a:cubicBezTo>
                  <a:pt x="20067" y="14084"/>
                  <a:pt x="19938" y="14049"/>
                  <a:pt x="19869" y="14114"/>
                </a:cubicBezTo>
                <a:cubicBezTo>
                  <a:pt x="19805" y="14174"/>
                  <a:pt x="19844" y="14296"/>
                  <a:pt x="19869" y="14362"/>
                </a:cubicBezTo>
                <a:cubicBezTo>
                  <a:pt x="19989" y="14322"/>
                  <a:pt x="20075" y="14276"/>
                  <a:pt x="20191" y="14362"/>
                </a:cubicBezTo>
                <a:cubicBezTo>
                  <a:pt x="20343" y="14475"/>
                  <a:pt x="20313" y="14681"/>
                  <a:pt x="20092" y="14660"/>
                </a:cubicBezTo>
                <a:cubicBezTo>
                  <a:pt x="19971" y="14611"/>
                  <a:pt x="19932" y="14597"/>
                  <a:pt x="19869" y="145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2960" y="5072040"/>
            <a:ext cx="189000" cy="196920"/>
          </a:xfrm>
          <a:custGeom>
            <a:avLst/>
            <a:gdLst/>
            <a:ahLst/>
            <a:rect l="l" t="t" r="r" b="b"/>
            <a:pathLst>
              <a:path w="522" h="547">
                <a:moveTo>
                  <a:pt x="20737" y="14089"/>
                </a:moveTo>
                <a:cubicBezTo>
                  <a:pt x="20604" y="14155"/>
                  <a:pt x="20498" y="14325"/>
                  <a:pt x="20538" y="14486"/>
                </a:cubicBezTo>
                <a:cubicBezTo>
                  <a:pt x="20584" y="14672"/>
                  <a:pt x="20972" y="14696"/>
                  <a:pt x="21059" y="14536"/>
                </a:cubicBezTo>
                <a:cubicBezTo>
                  <a:pt x="21059" y="14409"/>
                  <a:pt x="21056" y="14366"/>
                  <a:pt x="20935" y="143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85000" y="5348160"/>
            <a:ext cx="81000" cy="162000"/>
          </a:xfrm>
          <a:custGeom>
            <a:avLst/>
            <a:gdLst/>
            <a:ahLst/>
            <a:rect l="l" t="t" r="r" b="b"/>
            <a:pathLst>
              <a:path w="225" h="447">
                <a:moveTo>
                  <a:pt x="19124" y="14858"/>
                </a:moveTo>
                <a:cubicBezTo>
                  <a:pt x="19195" y="15011"/>
                  <a:pt x="19261" y="15160"/>
                  <a:pt x="19348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5640" y="5375160"/>
            <a:ext cx="80640" cy="162000"/>
          </a:xfrm>
          <a:custGeom>
            <a:avLst/>
            <a:gdLst/>
            <a:ahLst/>
            <a:rect l="l" t="t" r="r" b="b"/>
            <a:pathLst>
              <a:path w="224" h="448">
                <a:moveTo>
                  <a:pt x="19323" y="14932"/>
                </a:moveTo>
                <a:cubicBezTo>
                  <a:pt x="19252" y="15084"/>
                  <a:pt x="19178" y="15230"/>
                  <a:pt x="19100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83320" y="5054760"/>
            <a:ext cx="81000" cy="204480"/>
          </a:xfrm>
          <a:custGeom>
            <a:avLst/>
            <a:gdLst/>
            <a:ahLst/>
            <a:rect l="l" t="t" r="r" b="b"/>
            <a:pathLst>
              <a:path w="225" h="572">
                <a:moveTo>
                  <a:pt x="20786" y="14039"/>
                </a:moveTo>
                <a:cubicBezTo>
                  <a:pt x="20914" y="14138"/>
                  <a:pt x="20923" y="14240"/>
                  <a:pt x="20985" y="14387"/>
                </a:cubicBezTo>
                <a:cubicBezTo>
                  <a:pt x="21026" y="14484"/>
                  <a:pt x="20966" y="14531"/>
                  <a:pt x="20910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2760" y="5322960"/>
            <a:ext cx="169920" cy="195120"/>
          </a:xfrm>
          <a:custGeom>
            <a:avLst/>
            <a:gdLst/>
            <a:ahLst/>
            <a:rect l="l" t="t" r="r" b="b"/>
            <a:pathLst>
              <a:path w="472" h="546">
                <a:moveTo>
                  <a:pt x="20216" y="14833"/>
                </a:moveTo>
                <a:cubicBezTo>
                  <a:pt x="20284" y="14808"/>
                  <a:pt x="20508" y="14723"/>
                  <a:pt x="20538" y="14858"/>
                </a:cubicBezTo>
                <a:cubicBezTo>
                  <a:pt x="20564" y="14973"/>
                  <a:pt x="20403" y="15006"/>
                  <a:pt x="20340" y="15032"/>
                </a:cubicBezTo>
                <a:cubicBezTo>
                  <a:pt x="20332" y="15040"/>
                  <a:pt x="20323" y="15048"/>
                  <a:pt x="20315" y="15056"/>
                </a:cubicBezTo>
                <a:cubicBezTo>
                  <a:pt x="20388" y="15056"/>
                  <a:pt x="20544" y="15067"/>
                  <a:pt x="20563" y="15156"/>
                </a:cubicBezTo>
                <a:cubicBezTo>
                  <a:pt x="20614" y="15395"/>
                  <a:pt x="20226" y="15300"/>
                  <a:pt x="20141" y="15255"/>
                </a:cubicBezTo>
                <a:cubicBezTo>
                  <a:pt x="20125" y="15238"/>
                  <a:pt x="20108" y="15222"/>
                  <a:pt x="20092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56320" y="5375160"/>
            <a:ext cx="152640" cy="152640"/>
          </a:xfrm>
          <a:custGeom>
            <a:avLst/>
            <a:gdLst/>
            <a:ahLst/>
            <a:rect l="l" t="t" r="r" b="b"/>
            <a:pathLst>
              <a:path w="423" h="423">
                <a:moveTo>
                  <a:pt x="20960" y="14932"/>
                </a:moveTo>
                <a:cubicBezTo>
                  <a:pt x="20756" y="14987"/>
                  <a:pt x="20737" y="15095"/>
                  <a:pt x="20737" y="15304"/>
                </a:cubicBezTo>
                <a:cubicBezTo>
                  <a:pt x="20860" y="15338"/>
                  <a:pt x="21146" y="15387"/>
                  <a:pt x="21134" y="15156"/>
                </a:cubicBezTo>
                <a:cubicBezTo>
                  <a:pt x="21087" y="15039"/>
                  <a:pt x="21077" y="15001"/>
                  <a:pt x="20985" y="149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66000" y="5589720"/>
            <a:ext cx="633240" cy="27000"/>
          </a:xfrm>
          <a:custGeom>
            <a:avLst/>
            <a:gdLst/>
            <a:ahLst/>
            <a:rect l="l" t="t" r="r" b="b"/>
            <a:pathLst>
              <a:path w="1762" h="75">
                <a:moveTo>
                  <a:pt x="19348" y="15602"/>
                </a:moveTo>
                <a:cubicBezTo>
                  <a:pt x="19722" y="15602"/>
                  <a:pt x="20090" y="15565"/>
                  <a:pt x="20464" y="15553"/>
                </a:cubicBezTo>
                <a:cubicBezTo>
                  <a:pt x="20685" y="15546"/>
                  <a:pt x="20892" y="15553"/>
                  <a:pt x="21109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73960" y="5626080"/>
            <a:ext cx="125280" cy="13320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20910" y="15627"/>
                </a:moveTo>
                <a:cubicBezTo>
                  <a:pt x="20827" y="15775"/>
                  <a:pt x="20742" y="15846"/>
                  <a:pt x="20811" y="15999"/>
                </a:cubicBezTo>
                <a:cubicBezTo>
                  <a:pt x="20917" y="15957"/>
                  <a:pt x="21204" y="15889"/>
                  <a:pt x="21109" y="15701"/>
                </a:cubicBezTo>
                <a:cubicBezTo>
                  <a:pt x="21037" y="15654"/>
                  <a:pt x="21016" y="15639"/>
                  <a:pt x="20960" y="156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3760" y="5732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315" y="15925"/>
                </a:moveTo>
                <a:lnTo>
                  <a:pt x="20315" y="159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15120" y="5688000"/>
            <a:ext cx="179280" cy="125280"/>
          </a:xfrm>
          <a:custGeom>
            <a:avLst/>
            <a:gdLst/>
            <a:ahLst/>
            <a:rect l="l" t="t" r="r" b="b"/>
            <a:pathLst>
              <a:path w="497" h="348">
                <a:moveTo>
                  <a:pt x="20265" y="15900"/>
                </a:moveTo>
                <a:cubicBezTo>
                  <a:pt x="20170" y="15819"/>
                  <a:pt x="20087" y="15926"/>
                  <a:pt x="20042" y="16049"/>
                </a:cubicBezTo>
                <a:cubicBezTo>
                  <a:pt x="20042" y="16100"/>
                  <a:pt x="20043" y="16119"/>
                  <a:pt x="20067" y="16148"/>
                </a:cubicBezTo>
                <a:cubicBezTo>
                  <a:pt x="20278" y="16128"/>
                  <a:pt x="20430" y="16084"/>
                  <a:pt x="20538" y="15875"/>
                </a:cubicBezTo>
                <a:cubicBezTo>
                  <a:pt x="20538" y="15858"/>
                  <a:pt x="20538" y="15842"/>
                  <a:pt x="20538" y="15825"/>
                </a:cubicBezTo>
                <a:cubicBezTo>
                  <a:pt x="20407" y="15787"/>
                  <a:pt x="20328" y="15803"/>
                  <a:pt x="20216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66000" y="5661000"/>
            <a:ext cx="204840" cy="169920"/>
          </a:xfrm>
          <a:custGeom>
            <a:avLst/>
            <a:gdLst/>
            <a:ahLst/>
            <a:rect l="l" t="t" r="r" b="b"/>
            <a:pathLst>
              <a:path w="571" h="472">
                <a:moveTo>
                  <a:pt x="19571" y="15776"/>
                </a:moveTo>
                <a:cubicBezTo>
                  <a:pt x="19642" y="15669"/>
                  <a:pt x="19399" y="15970"/>
                  <a:pt x="19397" y="15974"/>
                </a:cubicBezTo>
                <a:cubicBezTo>
                  <a:pt x="19353" y="16064"/>
                  <a:pt x="19333" y="16086"/>
                  <a:pt x="19372" y="16148"/>
                </a:cubicBezTo>
                <a:cubicBezTo>
                  <a:pt x="19570" y="16205"/>
                  <a:pt x="19721" y="16146"/>
                  <a:pt x="19869" y="15974"/>
                </a:cubicBezTo>
                <a:cubicBezTo>
                  <a:pt x="19885" y="15941"/>
                  <a:pt x="19902" y="15908"/>
                  <a:pt x="19918" y="15875"/>
                </a:cubicBezTo>
                <a:cubicBezTo>
                  <a:pt x="19856" y="15762"/>
                  <a:pt x="19772" y="15690"/>
                  <a:pt x="19621" y="15726"/>
                </a:cubicBezTo>
                <a:cubicBezTo>
                  <a:pt x="19528" y="15773"/>
                  <a:pt x="19499" y="15783"/>
                  <a:pt x="19472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3120" y="5510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340" y="15304"/>
                </a:moveTo>
                <a:lnTo>
                  <a:pt x="20340" y="1530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18240" y="5830920"/>
            <a:ext cx="142920" cy="162000"/>
          </a:xfrm>
          <a:custGeom>
            <a:avLst/>
            <a:gdLst/>
            <a:ahLst/>
            <a:rect l="l" t="t" r="r" b="b"/>
            <a:pathLst>
              <a:path w="397" h="448">
                <a:moveTo>
                  <a:pt x="21109" y="16247"/>
                </a:moveTo>
                <a:cubicBezTo>
                  <a:pt x="21011" y="16205"/>
                  <a:pt x="21020" y="16243"/>
                  <a:pt x="20960" y="16321"/>
                </a:cubicBezTo>
                <a:cubicBezTo>
                  <a:pt x="20880" y="16424"/>
                  <a:pt x="20888" y="16426"/>
                  <a:pt x="20910" y="16545"/>
                </a:cubicBezTo>
                <a:cubicBezTo>
                  <a:pt x="20921" y="16606"/>
                  <a:pt x="20992" y="16657"/>
                  <a:pt x="21059" y="16644"/>
                </a:cubicBezTo>
                <a:cubicBezTo>
                  <a:pt x="21176" y="16622"/>
                  <a:pt x="21212" y="16528"/>
                  <a:pt x="21258" y="16446"/>
                </a:cubicBezTo>
                <a:cubicBezTo>
                  <a:pt x="21289" y="16390"/>
                  <a:pt x="21296" y="16334"/>
                  <a:pt x="21258" y="16272"/>
                </a:cubicBezTo>
                <a:cubicBezTo>
                  <a:pt x="21252" y="16263"/>
                  <a:pt x="21123" y="16196"/>
                  <a:pt x="21109" y="16197"/>
                </a:cubicBezTo>
                <a:cubicBezTo>
                  <a:pt x="21101" y="16205"/>
                  <a:pt x="21092" y="16214"/>
                  <a:pt x="21084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67760" y="5554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464" y="15429"/>
                </a:moveTo>
                <a:lnTo>
                  <a:pt x="20464" y="1542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18240" y="5232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886" y="14536"/>
                </a:moveTo>
                <a:lnTo>
                  <a:pt x="20886" y="1453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32760" y="5848200"/>
            <a:ext cx="179280" cy="169920"/>
          </a:xfrm>
          <a:custGeom>
            <a:avLst/>
            <a:gdLst/>
            <a:ahLst/>
            <a:rect l="l" t="t" r="r" b="b"/>
            <a:pathLst>
              <a:path w="497" h="472">
                <a:moveTo>
                  <a:pt x="20414" y="16272"/>
                </a:moveTo>
                <a:cubicBezTo>
                  <a:pt x="20366" y="16272"/>
                  <a:pt x="20252" y="16248"/>
                  <a:pt x="20216" y="16297"/>
                </a:cubicBezTo>
                <a:cubicBezTo>
                  <a:pt x="20150" y="16386"/>
                  <a:pt x="20072" y="16528"/>
                  <a:pt x="20092" y="16644"/>
                </a:cubicBezTo>
                <a:cubicBezTo>
                  <a:pt x="20112" y="16758"/>
                  <a:pt x="20270" y="16720"/>
                  <a:pt x="20340" y="16694"/>
                </a:cubicBezTo>
                <a:cubicBezTo>
                  <a:pt x="20465" y="16648"/>
                  <a:pt x="20546" y="16601"/>
                  <a:pt x="20588" y="16470"/>
                </a:cubicBezTo>
                <a:cubicBezTo>
                  <a:pt x="20612" y="16396"/>
                  <a:pt x="20552" y="16354"/>
                  <a:pt x="20513" y="16321"/>
                </a:cubicBezTo>
                <a:cubicBezTo>
                  <a:pt x="20452" y="16269"/>
                  <a:pt x="20459" y="16277"/>
                  <a:pt x="20389" y="162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56280" y="5848200"/>
            <a:ext cx="160560" cy="18900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19670" y="16247"/>
                </a:moveTo>
                <a:cubicBezTo>
                  <a:pt x="19618" y="16259"/>
                  <a:pt x="19425" y="16335"/>
                  <a:pt x="19422" y="16371"/>
                </a:cubicBezTo>
                <a:cubicBezTo>
                  <a:pt x="19422" y="16462"/>
                  <a:pt x="19422" y="16470"/>
                  <a:pt x="19422" y="16520"/>
                </a:cubicBezTo>
                <a:cubicBezTo>
                  <a:pt x="19551" y="16511"/>
                  <a:pt x="19622" y="16495"/>
                  <a:pt x="19745" y="16545"/>
                </a:cubicBezTo>
                <a:cubicBezTo>
                  <a:pt x="19744" y="16690"/>
                  <a:pt x="19668" y="16777"/>
                  <a:pt x="19496" y="16768"/>
                </a:cubicBezTo>
                <a:cubicBezTo>
                  <a:pt x="19405" y="16745"/>
                  <a:pt x="19379" y="16739"/>
                  <a:pt x="19323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04000" y="4884840"/>
            <a:ext cx="19080" cy="1332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18951" y="13568"/>
                </a:moveTo>
                <a:cubicBezTo>
                  <a:pt x="18912" y="13704"/>
                  <a:pt x="18901" y="13797"/>
                  <a:pt x="18901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97800" y="5919840"/>
            <a:ext cx="115920" cy="98280"/>
          </a:xfrm>
          <a:custGeom>
            <a:avLst/>
            <a:gdLst/>
            <a:ahLst/>
            <a:rect l="l" t="t" r="r" b="b"/>
            <a:pathLst>
              <a:path w="323" h="273">
                <a:moveTo>
                  <a:pt x="18752" y="16446"/>
                </a:moveTo>
                <a:cubicBezTo>
                  <a:pt x="18696" y="16530"/>
                  <a:pt x="18647" y="16624"/>
                  <a:pt x="18604" y="16718"/>
                </a:cubicBezTo>
                <a:cubicBezTo>
                  <a:pt x="18718" y="16704"/>
                  <a:pt x="18821" y="16644"/>
                  <a:pt x="18926" y="165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13720" y="5830920"/>
            <a:ext cx="9360" cy="250920"/>
          </a:xfrm>
          <a:custGeom>
            <a:avLst/>
            <a:gdLst/>
            <a:ahLst/>
            <a:rect l="l" t="t" r="r" b="b"/>
            <a:pathLst>
              <a:path w="26" h="696">
                <a:moveTo>
                  <a:pt x="18951" y="16197"/>
                </a:moveTo>
                <a:cubicBezTo>
                  <a:pt x="18951" y="16398"/>
                  <a:pt x="18917" y="16620"/>
                  <a:pt x="18926" y="16818"/>
                </a:cubicBezTo>
                <a:cubicBezTo>
                  <a:pt x="18934" y="16843"/>
                  <a:pt x="18943" y="16867"/>
                  <a:pt x="18951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72160" y="5965920"/>
            <a:ext cx="1044720" cy="268200"/>
          </a:xfrm>
          <a:custGeom>
            <a:avLst/>
            <a:gdLst/>
            <a:ahLst/>
            <a:rect l="l" t="t" r="r" b="b"/>
            <a:pathLst>
              <a:path w="2903" h="745">
                <a:moveTo>
                  <a:pt x="18256" y="17314"/>
                </a:moveTo>
                <a:cubicBezTo>
                  <a:pt x="18542" y="17141"/>
                  <a:pt x="18847" y="17089"/>
                  <a:pt x="19174" y="17016"/>
                </a:cubicBezTo>
                <a:cubicBezTo>
                  <a:pt x="19752" y="16887"/>
                  <a:pt x="20333" y="16773"/>
                  <a:pt x="20910" y="16644"/>
                </a:cubicBezTo>
                <a:cubicBezTo>
                  <a:pt x="21060" y="16606"/>
                  <a:pt x="21082" y="16612"/>
                  <a:pt x="21158" y="165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9907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1 </a:t>
            </a:r>
            <a:r>
              <a:rPr b="0" lang="en-US" sz="3600" spc="-1" strike="noStrike">
                <a:solidFill>
                  <a:srgbClr val="f6fca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1532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Solving Algebraic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Objective:  Students will evaluate algebraic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evaluate algebraic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Evaluate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   to s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Algebraic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Expression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  a #, an operation and a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Substitute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–  to replace or “put i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bcc4"/>
                </a:solidFill>
                <a:latin typeface="Times New Roman"/>
              </a:rPr>
              <a:t>Now that you can translate expressions, we will learn how to evaluate them by </a:t>
            </a: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substituting for the variable</a:t>
            </a:r>
            <a:r>
              <a:rPr b="1" lang="en-US" sz="3200" spc="-1" strike="noStrike">
                <a:solidFill>
                  <a:srgbClr val="a4bcc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evaluate algebraic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4bcc4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bcc4"/>
                </a:solidFill>
                <a:latin typeface="Times New Roman"/>
              </a:rPr>
              <a:t>To solve, we will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replace</a:t>
            </a:r>
            <a:r>
              <a:rPr b="1" lang="en-US" sz="3200" spc="-1" strike="noStrike">
                <a:solidFill>
                  <a:srgbClr val="a4bcc4"/>
                </a:solidFill>
                <a:latin typeface="Times New Roman"/>
              </a:rPr>
              <a:t> the variable with the number give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n = 8, evalua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+ 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16 – 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4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÷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00080" y="2224080"/>
            <a:ext cx="777960" cy="81000"/>
          </a:xfrm>
          <a:custGeom>
            <a:avLst/>
            <a:gdLst/>
            <a:ahLst/>
            <a:rect l="l" t="t" r="r" b="b"/>
            <a:pathLst>
              <a:path w="2159" h="225">
                <a:moveTo>
                  <a:pt x="2778" y="6400"/>
                </a:moveTo>
                <a:cubicBezTo>
                  <a:pt x="2844" y="6374"/>
                  <a:pt x="2904" y="6353"/>
                  <a:pt x="2977" y="6350"/>
                </a:cubicBezTo>
                <a:cubicBezTo>
                  <a:pt x="3061" y="6346"/>
                  <a:pt x="3115" y="6310"/>
                  <a:pt x="3200" y="6300"/>
                </a:cubicBezTo>
                <a:cubicBezTo>
                  <a:pt x="3268" y="6292"/>
                  <a:pt x="3332" y="6280"/>
                  <a:pt x="3398" y="6276"/>
                </a:cubicBezTo>
                <a:cubicBezTo>
                  <a:pt x="3479" y="6272"/>
                  <a:pt x="3546" y="6264"/>
                  <a:pt x="3621" y="6251"/>
                </a:cubicBezTo>
                <a:cubicBezTo>
                  <a:pt x="3754" y="6229"/>
                  <a:pt x="3910" y="6241"/>
                  <a:pt x="4043" y="6226"/>
                </a:cubicBezTo>
                <a:cubicBezTo>
                  <a:pt x="4117" y="6218"/>
                  <a:pt x="4193" y="6209"/>
                  <a:pt x="4266" y="6201"/>
                </a:cubicBezTo>
                <a:cubicBezTo>
                  <a:pt x="4351" y="6191"/>
                  <a:pt x="4512" y="6169"/>
                  <a:pt x="4589" y="6176"/>
                </a:cubicBezTo>
                <a:cubicBezTo>
                  <a:pt x="4659" y="6182"/>
                  <a:pt x="4765" y="6187"/>
                  <a:pt x="4837" y="6201"/>
                </a:cubicBezTo>
                <a:cubicBezTo>
                  <a:pt x="4871" y="6207"/>
                  <a:pt x="4902" y="6218"/>
                  <a:pt x="4936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1040" y="3214800"/>
            <a:ext cx="741240" cy="241200"/>
          </a:xfrm>
          <a:custGeom>
            <a:avLst/>
            <a:gdLst/>
            <a:ahLst/>
            <a:rect l="l" t="t" r="r" b="b"/>
            <a:pathLst>
              <a:path w="2060" h="670">
                <a:moveTo>
                  <a:pt x="2084" y="9079"/>
                </a:moveTo>
                <a:cubicBezTo>
                  <a:pt x="2103" y="9021"/>
                  <a:pt x="2111" y="9014"/>
                  <a:pt x="2108" y="8979"/>
                </a:cubicBezTo>
                <a:cubicBezTo>
                  <a:pt x="1951" y="8923"/>
                  <a:pt x="1766" y="8958"/>
                  <a:pt x="1637" y="9103"/>
                </a:cubicBezTo>
                <a:cubicBezTo>
                  <a:pt x="1547" y="9204"/>
                  <a:pt x="1871" y="9305"/>
                  <a:pt x="1885" y="9451"/>
                </a:cubicBezTo>
                <a:cubicBezTo>
                  <a:pt x="1899" y="9595"/>
                  <a:pt x="1733" y="9535"/>
                  <a:pt x="1662" y="9525"/>
                </a:cubicBezTo>
                <a:cubicBezTo>
                  <a:pt x="1702" y="9309"/>
                  <a:pt x="1844" y="9229"/>
                  <a:pt x="2009" y="9079"/>
                </a:cubicBezTo>
                <a:cubicBezTo>
                  <a:pt x="2026" y="9062"/>
                  <a:pt x="2042" y="9046"/>
                  <a:pt x="2059" y="9029"/>
                </a:cubicBezTo>
              </a:path>
              <a:path w="2060" h="670">
                <a:moveTo>
                  <a:pt x="2654" y="9128"/>
                </a:moveTo>
                <a:cubicBezTo>
                  <a:pt x="2689" y="9223"/>
                  <a:pt x="2698" y="9300"/>
                  <a:pt x="2704" y="9401"/>
                </a:cubicBezTo>
              </a:path>
              <a:path w="2060" h="670">
                <a:moveTo>
                  <a:pt x="2505" y="9277"/>
                </a:moveTo>
                <a:cubicBezTo>
                  <a:pt x="2654" y="9271"/>
                  <a:pt x="2781" y="9263"/>
                  <a:pt x="2927" y="9277"/>
                </a:cubicBezTo>
              </a:path>
              <a:path w="2060" h="670">
                <a:moveTo>
                  <a:pt x="3547" y="9302"/>
                </a:moveTo>
                <a:cubicBezTo>
                  <a:pt x="3606" y="9228"/>
                  <a:pt x="3660" y="9135"/>
                  <a:pt x="3572" y="9054"/>
                </a:cubicBezTo>
                <a:cubicBezTo>
                  <a:pt x="3446" y="8937"/>
                  <a:pt x="3255" y="8954"/>
                  <a:pt x="3200" y="9128"/>
                </a:cubicBezTo>
                <a:cubicBezTo>
                  <a:pt x="3200" y="9169"/>
                  <a:pt x="3200" y="9211"/>
                  <a:pt x="3200" y="9252"/>
                </a:cubicBezTo>
                <a:cubicBezTo>
                  <a:pt x="3392" y="9283"/>
                  <a:pt x="3503" y="9230"/>
                  <a:pt x="3671" y="9103"/>
                </a:cubicBezTo>
                <a:cubicBezTo>
                  <a:pt x="3671" y="9272"/>
                  <a:pt x="3671" y="9433"/>
                  <a:pt x="3646" y="95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3040" y="3490920"/>
            <a:ext cx="876240" cy="546120"/>
          </a:xfrm>
          <a:custGeom>
            <a:avLst/>
            <a:gdLst/>
            <a:ahLst/>
            <a:rect l="l" t="t" r="r" b="b"/>
            <a:pathLst>
              <a:path w="2432" h="1514">
                <a:moveTo>
                  <a:pt x="2108" y="10195"/>
                </a:moveTo>
                <a:cubicBezTo>
                  <a:pt x="2108" y="10388"/>
                  <a:pt x="2118" y="10574"/>
                  <a:pt x="2133" y="10765"/>
                </a:cubicBezTo>
              </a:path>
              <a:path w="2432" h="1514">
                <a:moveTo>
                  <a:pt x="2505" y="10269"/>
                </a:moveTo>
                <a:cubicBezTo>
                  <a:pt x="2647" y="10281"/>
                  <a:pt x="2783" y="10294"/>
                  <a:pt x="2927" y="10294"/>
                </a:cubicBezTo>
                <a:cubicBezTo>
                  <a:pt x="2913" y="10473"/>
                  <a:pt x="2872" y="10641"/>
                  <a:pt x="2828" y="10815"/>
                </a:cubicBezTo>
              </a:path>
              <a:path w="2432" h="1514">
                <a:moveTo>
                  <a:pt x="1860" y="11162"/>
                </a:moveTo>
                <a:cubicBezTo>
                  <a:pt x="2278" y="11225"/>
                  <a:pt x="2687" y="11237"/>
                  <a:pt x="3101" y="11112"/>
                </a:cubicBezTo>
                <a:cubicBezTo>
                  <a:pt x="3434" y="11011"/>
                  <a:pt x="3815" y="10793"/>
                  <a:pt x="3746" y="10393"/>
                </a:cubicBezTo>
                <a:cubicBezTo>
                  <a:pt x="3681" y="10016"/>
                  <a:pt x="3348" y="9802"/>
                  <a:pt x="3001" y="9723"/>
                </a:cubicBezTo>
                <a:cubicBezTo>
                  <a:pt x="2641" y="9641"/>
                  <a:pt x="2197" y="9730"/>
                  <a:pt x="1885" y="9922"/>
                </a:cubicBezTo>
                <a:cubicBezTo>
                  <a:pt x="1610" y="10091"/>
                  <a:pt x="1109" y="10608"/>
                  <a:pt x="1389" y="10964"/>
                </a:cubicBezTo>
                <a:cubicBezTo>
                  <a:pt x="1641" y="11114"/>
                  <a:pt x="1728" y="11164"/>
                  <a:pt x="1935" y="111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60720" y="3160800"/>
            <a:ext cx="688680" cy="741240"/>
          </a:xfrm>
          <a:custGeom>
            <a:avLst/>
            <a:gdLst/>
            <a:ahLst/>
            <a:rect l="l" t="t" r="r" b="b"/>
            <a:pathLst>
              <a:path w="1911" h="2060">
                <a:moveTo>
                  <a:pt x="6573" y="8930"/>
                </a:moveTo>
                <a:cubicBezTo>
                  <a:pt x="6512" y="9007"/>
                  <a:pt x="6453" y="9069"/>
                  <a:pt x="6375" y="9128"/>
                </a:cubicBezTo>
                <a:cubicBezTo>
                  <a:pt x="6493" y="9088"/>
                  <a:pt x="6607" y="9125"/>
                  <a:pt x="6722" y="9178"/>
                </a:cubicBezTo>
                <a:cubicBezTo>
                  <a:pt x="6750" y="9206"/>
                  <a:pt x="6763" y="9215"/>
                  <a:pt x="6796" y="9203"/>
                </a:cubicBezTo>
              </a:path>
              <a:path w="1911" h="2060">
                <a:moveTo>
                  <a:pt x="6846" y="8855"/>
                </a:moveTo>
                <a:cubicBezTo>
                  <a:pt x="6818" y="8996"/>
                  <a:pt x="6846" y="9212"/>
                  <a:pt x="6846" y="9376"/>
                </a:cubicBezTo>
                <a:cubicBezTo>
                  <a:pt x="6846" y="9393"/>
                  <a:pt x="6846" y="9409"/>
                  <a:pt x="6846" y="9426"/>
                </a:cubicBezTo>
              </a:path>
              <a:path w="1911" h="2060">
                <a:moveTo>
                  <a:pt x="7243" y="8830"/>
                </a:moveTo>
                <a:cubicBezTo>
                  <a:pt x="7121" y="9001"/>
                  <a:pt x="6993" y="9199"/>
                  <a:pt x="7020" y="9426"/>
                </a:cubicBezTo>
                <a:cubicBezTo>
                  <a:pt x="7035" y="9550"/>
                  <a:pt x="7139" y="9648"/>
                  <a:pt x="7243" y="9674"/>
                </a:cubicBezTo>
              </a:path>
              <a:path w="1911" h="2060">
                <a:moveTo>
                  <a:pt x="7466" y="9054"/>
                </a:moveTo>
                <a:cubicBezTo>
                  <a:pt x="7483" y="9037"/>
                  <a:pt x="7499" y="9021"/>
                  <a:pt x="7516" y="9004"/>
                </a:cubicBezTo>
                <a:cubicBezTo>
                  <a:pt x="7486" y="9000"/>
                  <a:pt x="7131" y="8993"/>
                  <a:pt x="7193" y="9103"/>
                </a:cubicBezTo>
                <a:cubicBezTo>
                  <a:pt x="7240" y="9186"/>
                  <a:pt x="7416" y="9262"/>
                  <a:pt x="7491" y="9327"/>
                </a:cubicBezTo>
                <a:cubicBezTo>
                  <a:pt x="7479" y="9376"/>
                  <a:pt x="7357" y="9531"/>
                  <a:pt x="7317" y="9401"/>
                </a:cubicBezTo>
                <a:cubicBezTo>
                  <a:pt x="7279" y="9276"/>
                  <a:pt x="7449" y="9166"/>
                  <a:pt x="7491" y="9054"/>
                </a:cubicBezTo>
              </a:path>
              <a:path w="1911" h="2060">
                <a:moveTo>
                  <a:pt x="7714" y="8781"/>
                </a:moveTo>
                <a:cubicBezTo>
                  <a:pt x="7870" y="8935"/>
                  <a:pt x="7962" y="9167"/>
                  <a:pt x="7913" y="9401"/>
                </a:cubicBezTo>
                <a:cubicBezTo>
                  <a:pt x="7884" y="9538"/>
                  <a:pt x="7806" y="9570"/>
                  <a:pt x="7714" y="9649"/>
                </a:cubicBezTo>
              </a:path>
              <a:path w="1911" h="2060">
                <a:moveTo>
                  <a:pt x="6524" y="10046"/>
                </a:moveTo>
                <a:cubicBezTo>
                  <a:pt x="6597" y="9987"/>
                  <a:pt x="6658" y="9956"/>
                  <a:pt x="6747" y="9922"/>
                </a:cubicBezTo>
                <a:cubicBezTo>
                  <a:pt x="6781" y="10083"/>
                  <a:pt x="6797" y="10126"/>
                  <a:pt x="6648" y="10220"/>
                </a:cubicBezTo>
                <a:cubicBezTo>
                  <a:pt x="6773" y="10231"/>
                  <a:pt x="6838" y="10229"/>
                  <a:pt x="6896" y="10344"/>
                </a:cubicBezTo>
                <a:cubicBezTo>
                  <a:pt x="6743" y="10437"/>
                  <a:pt x="6700" y="10451"/>
                  <a:pt x="6524" y="10443"/>
                </a:cubicBezTo>
              </a:path>
              <a:path w="1911" h="2060">
                <a:moveTo>
                  <a:pt x="7045" y="10046"/>
                </a:moveTo>
                <a:cubicBezTo>
                  <a:pt x="7147" y="10072"/>
                  <a:pt x="7210" y="10088"/>
                  <a:pt x="7293" y="10145"/>
                </a:cubicBezTo>
                <a:cubicBezTo>
                  <a:pt x="7264" y="10270"/>
                  <a:pt x="7026" y="10369"/>
                  <a:pt x="7020" y="10418"/>
                </a:cubicBezTo>
                <a:cubicBezTo>
                  <a:pt x="7006" y="10525"/>
                  <a:pt x="7234" y="10399"/>
                  <a:pt x="7342" y="10393"/>
                </a:cubicBezTo>
              </a:path>
              <a:path w="1911" h="2060">
                <a:moveTo>
                  <a:pt x="6400" y="10716"/>
                </a:moveTo>
                <a:cubicBezTo>
                  <a:pt x="6703" y="10812"/>
                  <a:pt x="6998" y="10854"/>
                  <a:pt x="7317" y="10790"/>
                </a:cubicBezTo>
                <a:cubicBezTo>
                  <a:pt x="7546" y="10744"/>
                  <a:pt x="7823" y="10641"/>
                  <a:pt x="7789" y="10368"/>
                </a:cubicBezTo>
                <a:cubicBezTo>
                  <a:pt x="7752" y="10068"/>
                  <a:pt x="7483" y="9957"/>
                  <a:pt x="7218" y="9897"/>
                </a:cubicBezTo>
                <a:cubicBezTo>
                  <a:pt x="6968" y="9841"/>
                  <a:pt x="6658" y="9892"/>
                  <a:pt x="6424" y="9996"/>
                </a:cubicBezTo>
                <a:cubicBezTo>
                  <a:pt x="6231" y="10082"/>
                  <a:pt x="6003" y="10282"/>
                  <a:pt x="6003" y="10517"/>
                </a:cubicBezTo>
                <a:cubicBezTo>
                  <a:pt x="6003" y="10847"/>
                  <a:pt x="6491" y="10832"/>
                  <a:pt x="6697" y="10840"/>
                </a:cubicBezTo>
                <a:cubicBezTo>
                  <a:pt x="6838" y="10840"/>
                  <a:pt x="6862" y="10840"/>
                  <a:pt x="6945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57760" y="3224160"/>
            <a:ext cx="812520" cy="268200"/>
          </a:xfrm>
          <a:custGeom>
            <a:avLst/>
            <a:gdLst/>
            <a:ahLst/>
            <a:rect l="l" t="t" r="r" b="b"/>
            <a:pathLst>
              <a:path w="2258" h="746">
                <a:moveTo>
                  <a:pt x="10716" y="8954"/>
                </a:moveTo>
                <a:cubicBezTo>
                  <a:pt x="10781" y="9131"/>
                  <a:pt x="10781" y="9328"/>
                  <a:pt x="10790" y="9525"/>
                </a:cubicBezTo>
              </a:path>
              <a:path w="2258" h="746">
                <a:moveTo>
                  <a:pt x="11187" y="9054"/>
                </a:moveTo>
                <a:cubicBezTo>
                  <a:pt x="11187" y="9218"/>
                  <a:pt x="11151" y="9405"/>
                  <a:pt x="11237" y="9550"/>
                </a:cubicBezTo>
                <a:cubicBezTo>
                  <a:pt x="11253" y="9566"/>
                  <a:pt x="11270" y="9583"/>
                  <a:pt x="11286" y="9599"/>
                </a:cubicBezTo>
                <a:cubicBezTo>
                  <a:pt x="11442" y="9535"/>
                  <a:pt x="11519" y="9474"/>
                  <a:pt x="11609" y="9327"/>
                </a:cubicBezTo>
                <a:cubicBezTo>
                  <a:pt x="11584" y="9251"/>
                  <a:pt x="11491" y="9241"/>
                  <a:pt x="11435" y="9327"/>
                </a:cubicBezTo>
                <a:cubicBezTo>
                  <a:pt x="11374" y="9420"/>
                  <a:pt x="11366" y="9478"/>
                  <a:pt x="11385" y="9575"/>
                </a:cubicBezTo>
              </a:path>
              <a:path w="2258" h="746">
                <a:moveTo>
                  <a:pt x="11832" y="9302"/>
                </a:moveTo>
                <a:cubicBezTo>
                  <a:pt x="11980" y="9276"/>
                  <a:pt x="12129" y="9241"/>
                  <a:pt x="12278" y="9227"/>
                </a:cubicBezTo>
              </a:path>
              <a:path w="2258" h="746">
                <a:moveTo>
                  <a:pt x="12898" y="9128"/>
                </a:moveTo>
                <a:cubicBezTo>
                  <a:pt x="12923" y="9120"/>
                  <a:pt x="12948" y="9111"/>
                  <a:pt x="12973" y="9103"/>
                </a:cubicBezTo>
                <a:cubicBezTo>
                  <a:pt x="12893" y="8979"/>
                  <a:pt x="12794" y="8941"/>
                  <a:pt x="12650" y="9054"/>
                </a:cubicBezTo>
                <a:cubicBezTo>
                  <a:pt x="12518" y="9158"/>
                  <a:pt x="12596" y="9242"/>
                  <a:pt x="12700" y="9302"/>
                </a:cubicBezTo>
                <a:cubicBezTo>
                  <a:pt x="12821" y="9371"/>
                  <a:pt x="13015" y="9413"/>
                  <a:pt x="12973" y="9599"/>
                </a:cubicBezTo>
                <a:cubicBezTo>
                  <a:pt x="12956" y="9624"/>
                  <a:pt x="12940" y="9649"/>
                  <a:pt x="12923" y="9674"/>
                </a:cubicBezTo>
                <a:cubicBezTo>
                  <a:pt x="12815" y="9681"/>
                  <a:pt x="12604" y="9664"/>
                  <a:pt x="12675" y="9475"/>
                </a:cubicBezTo>
                <a:cubicBezTo>
                  <a:pt x="12715" y="9368"/>
                  <a:pt x="12868" y="9254"/>
                  <a:pt x="12923" y="9178"/>
                </a:cubicBezTo>
                <a:cubicBezTo>
                  <a:pt x="12962" y="9139"/>
                  <a:pt x="12979" y="9137"/>
                  <a:pt x="12973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98960" y="3652920"/>
            <a:ext cx="536400" cy="392040"/>
          </a:xfrm>
          <a:custGeom>
            <a:avLst/>
            <a:gdLst/>
            <a:ahLst/>
            <a:rect l="l" t="t" r="r" b="b"/>
            <a:pathLst>
              <a:path w="1490" h="1093">
                <a:moveTo>
                  <a:pt x="12229" y="10244"/>
                </a:moveTo>
                <a:cubicBezTo>
                  <a:pt x="12067" y="10317"/>
                  <a:pt x="11952" y="10346"/>
                  <a:pt x="11807" y="10468"/>
                </a:cubicBezTo>
                <a:cubicBezTo>
                  <a:pt x="11911" y="10594"/>
                  <a:pt x="12083" y="10616"/>
                  <a:pt x="12229" y="10716"/>
                </a:cubicBezTo>
                <a:cubicBezTo>
                  <a:pt x="12145" y="10835"/>
                  <a:pt x="12022" y="10873"/>
                  <a:pt x="12030" y="10666"/>
                </a:cubicBezTo>
                <a:cubicBezTo>
                  <a:pt x="12036" y="10509"/>
                  <a:pt x="12100" y="10387"/>
                  <a:pt x="12154" y="10244"/>
                </a:cubicBezTo>
              </a:path>
              <a:path w="1490" h="1093">
                <a:moveTo>
                  <a:pt x="11460" y="10840"/>
                </a:moveTo>
                <a:cubicBezTo>
                  <a:pt x="11604" y="10995"/>
                  <a:pt x="11714" y="11152"/>
                  <a:pt x="11931" y="11212"/>
                </a:cubicBezTo>
                <a:cubicBezTo>
                  <a:pt x="12175" y="11279"/>
                  <a:pt x="12519" y="11191"/>
                  <a:pt x="12700" y="11013"/>
                </a:cubicBezTo>
                <a:cubicBezTo>
                  <a:pt x="12843" y="10873"/>
                  <a:pt x="12920" y="10615"/>
                  <a:pt x="12874" y="10418"/>
                </a:cubicBezTo>
                <a:cubicBezTo>
                  <a:pt x="12833" y="10242"/>
                  <a:pt x="12686" y="10247"/>
                  <a:pt x="12551" y="10195"/>
                </a:cubicBezTo>
                <a:cubicBezTo>
                  <a:pt x="12365" y="10123"/>
                  <a:pt x="12268" y="10153"/>
                  <a:pt x="12080" y="10195"/>
                </a:cubicBezTo>
                <a:cubicBezTo>
                  <a:pt x="11898" y="10235"/>
                  <a:pt x="11734" y="10304"/>
                  <a:pt x="11559" y="10368"/>
                </a:cubicBezTo>
                <a:cubicBezTo>
                  <a:pt x="11401" y="10426"/>
                  <a:pt x="11377" y="10612"/>
                  <a:pt x="11385" y="10765"/>
                </a:cubicBezTo>
                <a:cubicBezTo>
                  <a:pt x="11395" y="10966"/>
                  <a:pt x="11475" y="11151"/>
                  <a:pt x="11683" y="11212"/>
                </a:cubicBezTo>
                <a:cubicBezTo>
                  <a:pt x="11707" y="11219"/>
                  <a:pt x="11988" y="11212"/>
                  <a:pt x="11733" y="11212"/>
                </a:cubicBezTo>
                <a:cubicBezTo>
                  <a:pt x="11692" y="11212"/>
                  <a:pt x="11816" y="11212"/>
                  <a:pt x="11857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48200" y="3276720"/>
            <a:ext cx="893880" cy="277560"/>
          </a:xfrm>
          <a:custGeom>
            <a:avLst/>
            <a:gdLst/>
            <a:ahLst/>
            <a:rect l="l" t="t" r="r" b="b"/>
            <a:pathLst>
              <a:path w="2482" h="770">
                <a:moveTo>
                  <a:pt x="16272" y="9178"/>
                </a:moveTo>
                <a:cubicBezTo>
                  <a:pt x="16289" y="9296"/>
                  <a:pt x="16272" y="9378"/>
                  <a:pt x="16247" y="9500"/>
                </a:cubicBezTo>
                <a:cubicBezTo>
                  <a:pt x="16348" y="9494"/>
                  <a:pt x="16445" y="9482"/>
                  <a:pt x="16545" y="9475"/>
                </a:cubicBezTo>
              </a:path>
              <a:path w="2482" h="770">
                <a:moveTo>
                  <a:pt x="16446" y="9128"/>
                </a:moveTo>
                <a:cubicBezTo>
                  <a:pt x="16446" y="9343"/>
                  <a:pt x="16446" y="9558"/>
                  <a:pt x="16446" y="9773"/>
                </a:cubicBezTo>
              </a:path>
              <a:path w="2482" h="770">
                <a:moveTo>
                  <a:pt x="16768" y="9252"/>
                </a:moveTo>
                <a:cubicBezTo>
                  <a:pt x="16663" y="9410"/>
                  <a:pt x="16591" y="9601"/>
                  <a:pt x="16644" y="9798"/>
                </a:cubicBezTo>
                <a:cubicBezTo>
                  <a:pt x="16661" y="9823"/>
                  <a:pt x="16677" y="9847"/>
                  <a:pt x="16694" y="9872"/>
                </a:cubicBezTo>
                <a:cubicBezTo>
                  <a:pt x="16908" y="9771"/>
                  <a:pt x="17108" y="9679"/>
                  <a:pt x="16966" y="9401"/>
                </a:cubicBezTo>
                <a:cubicBezTo>
                  <a:pt x="16877" y="9312"/>
                  <a:pt x="16857" y="9279"/>
                  <a:pt x="16768" y="9302"/>
                </a:cubicBezTo>
              </a:path>
              <a:path w="2482" h="770">
                <a:moveTo>
                  <a:pt x="17338" y="9426"/>
                </a:moveTo>
                <a:cubicBezTo>
                  <a:pt x="17531" y="9464"/>
                  <a:pt x="17664" y="9468"/>
                  <a:pt x="17859" y="9451"/>
                </a:cubicBezTo>
                <a:cubicBezTo>
                  <a:pt x="17876" y="9451"/>
                  <a:pt x="17892" y="9451"/>
                  <a:pt x="17909" y="9451"/>
                </a:cubicBezTo>
              </a:path>
              <a:path w="2482" h="770">
                <a:moveTo>
                  <a:pt x="17587" y="9103"/>
                </a:moveTo>
                <a:lnTo>
                  <a:pt x="17587" y="9103"/>
                </a:lnTo>
              </a:path>
              <a:path w="2482" h="770">
                <a:moveTo>
                  <a:pt x="17636" y="9798"/>
                </a:moveTo>
                <a:lnTo>
                  <a:pt x="17636" y="9798"/>
                </a:lnTo>
              </a:path>
              <a:path w="2482" h="770">
                <a:moveTo>
                  <a:pt x="18653" y="9227"/>
                </a:moveTo>
                <a:cubicBezTo>
                  <a:pt x="18661" y="9211"/>
                  <a:pt x="18670" y="9194"/>
                  <a:pt x="18678" y="9178"/>
                </a:cubicBezTo>
                <a:cubicBezTo>
                  <a:pt x="18641" y="9165"/>
                  <a:pt x="18317" y="9107"/>
                  <a:pt x="18355" y="9252"/>
                </a:cubicBezTo>
                <a:cubicBezTo>
                  <a:pt x="18414" y="9477"/>
                  <a:pt x="18726" y="9467"/>
                  <a:pt x="18703" y="9748"/>
                </a:cubicBezTo>
                <a:cubicBezTo>
                  <a:pt x="18686" y="9773"/>
                  <a:pt x="18670" y="9798"/>
                  <a:pt x="18653" y="9823"/>
                </a:cubicBezTo>
                <a:cubicBezTo>
                  <a:pt x="18485" y="9802"/>
                  <a:pt x="18490" y="9667"/>
                  <a:pt x="18554" y="9525"/>
                </a:cubicBezTo>
                <a:cubicBezTo>
                  <a:pt x="18601" y="9422"/>
                  <a:pt x="18812" y="9266"/>
                  <a:pt x="18678" y="91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26120" y="3679920"/>
            <a:ext cx="561960" cy="463320"/>
          </a:xfrm>
          <a:custGeom>
            <a:avLst/>
            <a:gdLst/>
            <a:ahLst/>
            <a:rect l="l" t="t" r="r" b="b"/>
            <a:pathLst>
              <a:path w="1564" h="1290">
                <a:moveTo>
                  <a:pt x="17859" y="10517"/>
                </a:moveTo>
                <a:cubicBezTo>
                  <a:pt x="17746" y="10533"/>
                  <a:pt x="17675" y="10512"/>
                  <a:pt x="17636" y="10616"/>
                </a:cubicBezTo>
                <a:cubicBezTo>
                  <a:pt x="17615" y="10699"/>
                  <a:pt x="17607" y="10714"/>
                  <a:pt x="17611" y="10765"/>
                </a:cubicBezTo>
                <a:cubicBezTo>
                  <a:pt x="17699" y="10746"/>
                  <a:pt x="17823" y="10655"/>
                  <a:pt x="17909" y="10765"/>
                </a:cubicBezTo>
                <a:cubicBezTo>
                  <a:pt x="18048" y="10945"/>
                  <a:pt x="17788" y="11038"/>
                  <a:pt x="17661" y="11038"/>
                </a:cubicBezTo>
                <a:cubicBezTo>
                  <a:pt x="17570" y="11020"/>
                  <a:pt x="17563" y="11011"/>
                  <a:pt x="17512" y="11013"/>
                </a:cubicBezTo>
              </a:path>
              <a:path w="1564" h="1290">
                <a:moveTo>
                  <a:pt x="17140" y="11286"/>
                </a:moveTo>
                <a:cubicBezTo>
                  <a:pt x="17189" y="11434"/>
                  <a:pt x="17352" y="11488"/>
                  <a:pt x="17512" y="11509"/>
                </a:cubicBezTo>
                <a:cubicBezTo>
                  <a:pt x="17859" y="11554"/>
                  <a:pt x="18256" y="11400"/>
                  <a:pt x="18455" y="11112"/>
                </a:cubicBezTo>
                <a:cubicBezTo>
                  <a:pt x="18570" y="10945"/>
                  <a:pt x="18596" y="10759"/>
                  <a:pt x="18554" y="10567"/>
                </a:cubicBezTo>
                <a:cubicBezTo>
                  <a:pt x="18527" y="10443"/>
                  <a:pt x="18429" y="10309"/>
                  <a:pt x="18306" y="10269"/>
                </a:cubicBezTo>
                <a:cubicBezTo>
                  <a:pt x="18176" y="10226"/>
                  <a:pt x="17971" y="10208"/>
                  <a:pt x="17835" y="10220"/>
                </a:cubicBezTo>
                <a:cubicBezTo>
                  <a:pt x="17669" y="10234"/>
                  <a:pt x="17464" y="10272"/>
                  <a:pt x="17314" y="10344"/>
                </a:cubicBezTo>
                <a:cubicBezTo>
                  <a:pt x="17157" y="10419"/>
                  <a:pt x="17040" y="10567"/>
                  <a:pt x="17016" y="10740"/>
                </a:cubicBezTo>
                <a:cubicBezTo>
                  <a:pt x="16995" y="10897"/>
                  <a:pt x="17011" y="11076"/>
                  <a:pt x="17140" y="11187"/>
                </a:cubicBezTo>
                <a:cubicBezTo>
                  <a:pt x="17227" y="11261"/>
                  <a:pt x="17381" y="11350"/>
                  <a:pt x="17487" y="11385"/>
                </a:cubicBezTo>
                <a:cubicBezTo>
                  <a:pt x="17504" y="11385"/>
                  <a:pt x="17520" y="11385"/>
                  <a:pt x="17537" y="113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evaluate algebraic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bcc4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If y = 12, evaluat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y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– 1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8 + 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If x = 9 and z = 3, evaluat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– 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x +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3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÷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11200" y="2714760"/>
            <a:ext cx="669960" cy="250560"/>
          </a:xfrm>
          <a:custGeom>
            <a:avLst/>
            <a:gdLst/>
            <a:ahLst/>
            <a:rect l="l" t="t" r="r" b="b"/>
            <a:pathLst>
              <a:path w="1861" h="695">
                <a:moveTo>
                  <a:pt x="3994" y="7541"/>
                </a:moveTo>
                <a:cubicBezTo>
                  <a:pt x="4095" y="7541"/>
                  <a:pt x="4169" y="7549"/>
                  <a:pt x="4266" y="7565"/>
                </a:cubicBezTo>
                <a:cubicBezTo>
                  <a:pt x="4297" y="7779"/>
                  <a:pt x="4208" y="7811"/>
                  <a:pt x="4043" y="7938"/>
                </a:cubicBezTo>
                <a:cubicBezTo>
                  <a:pt x="4174" y="7900"/>
                  <a:pt x="4352" y="7846"/>
                  <a:pt x="4266" y="8062"/>
                </a:cubicBezTo>
                <a:cubicBezTo>
                  <a:pt x="4191" y="8251"/>
                  <a:pt x="4027" y="8281"/>
                  <a:pt x="3919" y="8161"/>
                </a:cubicBezTo>
              </a:path>
              <a:path w="1861" h="695">
                <a:moveTo>
                  <a:pt x="4614" y="7714"/>
                </a:moveTo>
                <a:cubicBezTo>
                  <a:pt x="4686" y="7842"/>
                  <a:pt x="4756" y="7965"/>
                  <a:pt x="4837" y="8086"/>
                </a:cubicBezTo>
              </a:path>
              <a:path w="1861" h="695">
                <a:moveTo>
                  <a:pt x="4986" y="7739"/>
                </a:moveTo>
                <a:cubicBezTo>
                  <a:pt x="4880" y="7884"/>
                  <a:pt x="4778" y="8031"/>
                  <a:pt x="4688" y="8186"/>
                </a:cubicBezTo>
              </a:path>
              <a:path w="1861" h="695">
                <a:moveTo>
                  <a:pt x="5234" y="7640"/>
                </a:moveTo>
                <a:cubicBezTo>
                  <a:pt x="5234" y="7825"/>
                  <a:pt x="5221" y="8003"/>
                  <a:pt x="5209" y="8186"/>
                </a:cubicBezTo>
              </a:path>
              <a:path w="1861" h="695">
                <a:moveTo>
                  <a:pt x="5581" y="7640"/>
                </a:moveTo>
                <a:cubicBezTo>
                  <a:pt x="5673" y="7640"/>
                  <a:pt x="5700" y="7638"/>
                  <a:pt x="5755" y="7665"/>
                </a:cubicBezTo>
                <a:cubicBezTo>
                  <a:pt x="5766" y="7861"/>
                  <a:pt x="5376" y="7971"/>
                  <a:pt x="5482" y="8136"/>
                </a:cubicBezTo>
                <a:cubicBezTo>
                  <a:pt x="5631" y="8158"/>
                  <a:pt x="5666" y="8172"/>
                  <a:pt x="5755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38160" y="4170240"/>
            <a:ext cx="660600" cy="88920"/>
          </a:xfrm>
          <a:custGeom>
            <a:avLst/>
            <a:gdLst/>
            <a:ahLst/>
            <a:rect l="l" t="t" r="r" b="b"/>
            <a:pathLst>
              <a:path w="1837" h="249">
                <a:moveTo>
                  <a:pt x="2604" y="11584"/>
                </a:moveTo>
                <a:cubicBezTo>
                  <a:pt x="2723" y="11620"/>
                  <a:pt x="2874" y="11626"/>
                  <a:pt x="3001" y="11633"/>
                </a:cubicBezTo>
                <a:cubicBezTo>
                  <a:pt x="3265" y="11648"/>
                  <a:pt x="3537" y="11632"/>
                  <a:pt x="3795" y="11609"/>
                </a:cubicBezTo>
                <a:cubicBezTo>
                  <a:pt x="3982" y="11592"/>
                  <a:pt x="4178" y="11609"/>
                  <a:pt x="4366" y="11609"/>
                </a:cubicBezTo>
              </a:path>
              <a:path w="1837" h="249">
                <a:moveTo>
                  <a:pt x="2704" y="11708"/>
                </a:moveTo>
                <a:cubicBezTo>
                  <a:pt x="2836" y="11737"/>
                  <a:pt x="2987" y="11749"/>
                  <a:pt x="3125" y="11733"/>
                </a:cubicBezTo>
                <a:cubicBezTo>
                  <a:pt x="3272" y="11716"/>
                  <a:pt x="3426" y="11728"/>
                  <a:pt x="3572" y="11708"/>
                </a:cubicBezTo>
                <a:cubicBezTo>
                  <a:pt x="3695" y="11691"/>
                  <a:pt x="3822" y="11702"/>
                  <a:pt x="3944" y="11683"/>
                </a:cubicBezTo>
                <a:cubicBezTo>
                  <a:pt x="4063" y="11665"/>
                  <a:pt x="4170" y="11638"/>
                  <a:pt x="4291" y="11633"/>
                </a:cubicBezTo>
                <a:cubicBezTo>
                  <a:pt x="4361" y="11630"/>
                  <a:pt x="4379" y="11618"/>
                  <a:pt x="4440" y="11633"/>
                </a:cubicBezTo>
              </a:path>
              <a:path w="1837" h="249">
                <a:moveTo>
                  <a:pt x="2803" y="11708"/>
                </a:moveTo>
                <a:cubicBezTo>
                  <a:pt x="3037" y="11708"/>
                  <a:pt x="3265" y="11719"/>
                  <a:pt x="3497" y="11733"/>
                </a:cubicBezTo>
                <a:cubicBezTo>
                  <a:pt x="3634" y="11741"/>
                  <a:pt x="3762" y="11764"/>
                  <a:pt x="3894" y="11782"/>
                </a:cubicBezTo>
                <a:cubicBezTo>
                  <a:pt x="3997" y="11796"/>
                  <a:pt x="4113" y="11782"/>
                  <a:pt x="4217" y="11782"/>
                </a:cubicBezTo>
                <a:cubicBezTo>
                  <a:pt x="3977" y="11725"/>
                  <a:pt x="3770" y="11728"/>
                  <a:pt x="3522" y="11757"/>
                </a:cubicBezTo>
                <a:cubicBezTo>
                  <a:pt x="3340" y="11778"/>
                  <a:pt x="3158" y="11800"/>
                  <a:pt x="2977" y="11807"/>
                </a:cubicBezTo>
                <a:cubicBezTo>
                  <a:pt x="2931" y="11809"/>
                  <a:pt x="2797" y="11845"/>
                  <a:pt x="3001" y="11807"/>
                </a:cubicBezTo>
                <a:cubicBezTo>
                  <a:pt x="3250" y="11799"/>
                  <a:pt x="3496" y="11782"/>
                  <a:pt x="3746" y="11782"/>
                </a:cubicBezTo>
                <a:cubicBezTo>
                  <a:pt x="3812" y="11782"/>
                  <a:pt x="3829" y="11782"/>
                  <a:pt x="3870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1960" y="5303880"/>
            <a:ext cx="339840" cy="223920"/>
          </a:xfrm>
          <a:custGeom>
            <a:avLst/>
            <a:gdLst/>
            <a:ahLst/>
            <a:rect l="l" t="t" r="r" b="b"/>
            <a:pathLst>
              <a:path w="943" h="621">
                <a:moveTo>
                  <a:pt x="1563" y="14784"/>
                </a:moveTo>
                <a:cubicBezTo>
                  <a:pt x="1632" y="14701"/>
                  <a:pt x="1751" y="14755"/>
                  <a:pt x="1885" y="14759"/>
                </a:cubicBezTo>
                <a:cubicBezTo>
                  <a:pt x="1934" y="14761"/>
                  <a:pt x="1985" y="14759"/>
                  <a:pt x="2034" y="14759"/>
                </a:cubicBezTo>
                <a:cubicBezTo>
                  <a:pt x="2019" y="14904"/>
                  <a:pt x="2000" y="15063"/>
                  <a:pt x="1960" y="15205"/>
                </a:cubicBezTo>
                <a:cubicBezTo>
                  <a:pt x="1943" y="15265"/>
                  <a:pt x="1935" y="15289"/>
                  <a:pt x="1935" y="15354"/>
                </a:cubicBezTo>
              </a:path>
              <a:path w="943" h="621">
                <a:moveTo>
                  <a:pt x="2232" y="15007"/>
                </a:moveTo>
                <a:cubicBezTo>
                  <a:pt x="2350" y="15062"/>
                  <a:pt x="2376" y="15106"/>
                  <a:pt x="2456" y="15205"/>
                </a:cubicBezTo>
              </a:path>
              <a:path w="943" h="621">
                <a:moveTo>
                  <a:pt x="2505" y="15007"/>
                </a:moveTo>
                <a:cubicBezTo>
                  <a:pt x="2505" y="14990"/>
                  <a:pt x="2505" y="14974"/>
                  <a:pt x="2505" y="14957"/>
                </a:cubicBezTo>
                <a:cubicBezTo>
                  <a:pt x="2451" y="15046"/>
                  <a:pt x="2367" y="15130"/>
                  <a:pt x="2332" y="15230"/>
                </a:cubicBezTo>
                <a:cubicBezTo>
                  <a:pt x="2332" y="15265"/>
                  <a:pt x="2323" y="15278"/>
                  <a:pt x="2282" y="152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8080" y="2786040"/>
            <a:ext cx="19080" cy="98280"/>
          </a:xfrm>
          <a:custGeom>
            <a:avLst/>
            <a:gdLst/>
            <a:ahLst/>
            <a:rect l="l" t="t" r="r" b="b"/>
            <a:pathLst>
              <a:path w="51" h="274">
                <a:moveTo>
                  <a:pt x="8830" y="7739"/>
                </a:moveTo>
                <a:cubicBezTo>
                  <a:pt x="8852" y="7889"/>
                  <a:pt x="8854" y="7923"/>
                  <a:pt x="8880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95800" y="2697120"/>
            <a:ext cx="347400" cy="160560"/>
          </a:xfrm>
          <a:custGeom>
            <a:avLst/>
            <a:gdLst/>
            <a:ahLst/>
            <a:rect l="l" t="t" r="r" b="b"/>
            <a:pathLst>
              <a:path w="968" h="448">
                <a:moveTo>
                  <a:pt x="9153" y="7516"/>
                </a:moveTo>
                <a:cubicBezTo>
                  <a:pt x="9277" y="7491"/>
                  <a:pt x="9318" y="7483"/>
                  <a:pt x="9401" y="7516"/>
                </a:cubicBezTo>
                <a:cubicBezTo>
                  <a:pt x="9435" y="7703"/>
                  <a:pt x="9328" y="7777"/>
                  <a:pt x="9203" y="7913"/>
                </a:cubicBezTo>
                <a:cubicBezTo>
                  <a:pt x="9311" y="7933"/>
                  <a:pt x="9431" y="7913"/>
                  <a:pt x="9550" y="7913"/>
                </a:cubicBezTo>
              </a:path>
              <a:path w="968" h="448">
                <a:moveTo>
                  <a:pt x="9823" y="7764"/>
                </a:moveTo>
                <a:cubicBezTo>
                  <a:pt x="9930" y="7764"/>
                  <a:pt x="10021" y="7767"/>
                  <a:pt x="10120" y="77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6120" y="2687760"/>
            <a:ext cx="9720" cy="206280"/>
          </a:xfrm>
          <a:custGeom>
            <a:avLst/>
            <a:gdLst/>
            <a:ahLst/>
            <a:rect l="l" t="t" r="r" b="b"/>
            <a:pathLst>
              <a:path w="26" h="572">
                <a:moveTo>
                  <a:pt x="10542" y="7466"/>
                </a:moveTo>
                <a:cubicBezTo>
                  <a:pt x="10542" y="7660"/>
                  <a:pt x="10538" y="7845"/>
                  <a:pt x="10517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73680" y="2670120"/>
            <a:ext cx="9360" cy="179280"/>
          </a:xfrm>
          <a:custGeom>
            <a:avLst/>
            <a:gdLst/>
            <a:ahLst/>
            <a:rect l="l" t="t" r="r" b="b"/>
            <a:pathLst>
              <a:path w="26" h="497">
                <a:moveTo>
                  <a:pt x="11038" y="7417"/>
                </a:moveTo>
                <a:cubicBezTo>
                  <a:pt x="11059" y="7593"/>
                  <a:pt x="11054" y="7739"/>
                  <a:pt x="11038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02000" y="2874960"/>
            <a:ext cx="500040" cy="349200"/>
          </a:xfrm>
          <a:custGeom>
            <a:avLst/>
            <a:gdLst/>
            <a:ahLst/>
            <a:rect l="l" t="t" r="r" b="b"/>
            <a:pathLst>
              <a:path w="1390" h="968">
                <a:moveTo>
                  <a:pt x="9947" y="8285"/>
                </a:moveTo>
                <a:cubicBezTo>
                  <a:pt x="9947" y="8442"/>
                  <a:pt x="9947" y="8599"/>
                  <a:pt x="9947" y="8756"/>
                </a:cubicBezTo>
              </a:path>
              <a:path w="1390" h="968">
                <a:moveTo>
                  <a:pt x="9674" y="8830"/>
                </a:moveTo>
                <a:cubicBezTo>
                  <a:pt x="9916" y="8971"/>
                  <a:pt x="10135" y="8981"/>
                  <a:pt x="10418" y="8930"/>
                </a:cubicBezTo>
                <a:cubicBezTo>
                  <a:pt x="10694" y="8880"/>
                  <a:pt x="10803" y="8700"/>
                  <a:pt x="10840" y="8434"/>
                </a:cubicBezTo>
                <a:cubicBezTo>
                  <a:pt x="10872" y="8203"/>
                  <a:pt x="10608" y="8067"/>
                  <a:pt x="10418" y="8012"/>
                </a:cubicBezTo>
                <a:cubicBezTo>
                  <a:pt x="10208" y="7951"/>
                  <a:pt x="9929" y="7981"/>
                  <a:pt x="9748" y="8111"/>
                </a:cubicBezTo>
                <a:cubicBezTo>
                  <a:pt x="9547" y="8255"/>
                  <a:pt x="9332" y="8573"/>
                  <a:pt x="9525" y="8806"/>
                </a:cubicBezTo>
                <a:cubicBezTo>
                  <a:pt x="9659" y="8895"/>
                  <a:pt x="9690" y="8928"/>
                  <a:pt x="9798" y="89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73200" y="4170240"/>
            <a:ext cx="598680" cy="17640"/>
          </a:xfrm>
          <a:custGeom>
            <a:avLst/>
            <a:gdLst/>
            <a:ahLst/>
            <a:rect l="l" t="t" r="r" b="b"/>
            <a:pathLst>
              <a:path w="1663" h="50">
                <a:moveTo>
                  <a:pt x="6871" y="11633"/>
                </a:moveTo>
                <a:cubicBezTo>
                  <a:pt x="6964" y="11626"/>
                  <a:pt x="7050" y="11611"/>
                  <a:pt x="7144" y="11609"/>
                </a:cubicBezTo>
                <a:cubicBezTo>
                  <a:pt x="7354" y="11604"/>
                  <a:pt x="7557" y="11600"/>
                  <a:pt x="7764" y="11584"/>
                </a:cubicBezTo>
                <a:cubicBezTo>
                  <a:pt x="7996" y="11566"/>
                  <a:pt x="8261" y="11572"/>
                  <a:pt x="8483" y="11609"/>
                </a:cubicBezTo>
                <a:cubicBezTo>
                  <a:pt x="8500" y="11609"/>
                  <a:pt x="8516" y="11609"/>
                  <a:pt x="8533" y="116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28840" y="3036960"/>
            <a:ext cx="608040" cy="347760"/>
          </a:xfrm>
          <a:custGeom>
            <a:avLst/>
            <a:gdLst/>
            <a:ahLst/>
            <a:rect l="l" t="t" r="r" b="b"/>
            <a:pathLst>
              <a:path w="1687" h="968">
                <a:moveTo>
                  <a:pt x="4341" y="8806"/>
                </a:moveTo>
                <a:cubicBezTo>
                  <a:pt x="4383" y="8785"/>
                  <a:pt x="4653" y="8611"/>
                  <a:pt x="4614" y="8806"/>
                </a:cubicBezTo>
                <a:cubicBezTo>
                  <a:pt x="4560" y="8886"/>
                  <a:pt x="4537" y="8914"/>
                  <a:pt x="4465" y="8930"/>
                </a:cubicBezTo>
                <a:cubicBezTo>
                  <a:pt x="4448" y="8938"/>
                  <a:pt x="4432" y="8946"/>
                  <a:pt x="4415" y="8954"/>
                </a:cubicBezTo>
                <a:cubicBezTo>
                  <a:pt x="4526" y="8922"/>
                  <a:pt x="4714" y="8914"/>
                  <a:pt x="4514" y="9079"/>
                </a:cubicBezTo>
                <a:cubicBezTo>
                  <a:pt x="4414" y="9162"/>
                  <a:pt x="4342" y="9135"/>
                  <a:pt x="4266" y="9079"/>
                </a:cubicBezTo>
              </a:path>
              <a:path w="1687" h="968">
                <a:moveTo>
                  <a:pt x="4787" y="8756"/>
                </a:moveTo>
                <a:cubicBezTo>
                  <a:pt x="4805" y="8826"/>
                  <a:pt x="4785" y="8942"/>
                  <a:pt x="4812" y="9004"/>
                </a:cubicBezTo>
                <a:cubicBezTo>
                  <a:pt x="4870" y="9137"/>
                  <a:pt x="5008" y="9125"/>
                  <a:pt x="5110" y="9054"/>
                </a:cubicBezTo>
                <a:cubicBezTo>
                  <a:pt x="5154" y="9009"/>
                  <a:pt x="5171" y="8999"/>
                  <a:pt x="5159" y="8954"/>
                </a:cubicBezTo>
                <a:cubicBezTo>
                  <a:pt x="5043" y="8912"/>
                  <a:pt x="5026" y="8961"/>
                  <a:pt x="4986" y="9079"/>
                </a:cubicBezTo>
                <a:cubicBezTo>
                  <a:pt x="4986" y="9087"/>
                  <a:pt x="4986" y="9095"/>
                  <a:pt x="4986" y="9103"/>
                </a:cubicBezTo>
              </a:path>
              <a:path w="1687" h="968">
                <a:moveTo>
                  <a:pt x="4217" y="9302"/>
                </a:moveTo>
                <a:cubicBezTo>
                  <a:pt x="4437" y="9371"/>
                  <a:pt x="4653" y="9426"/>
                  <a:pt x="4887" y="9401"/>
                </a:cubicBezTo>
                <a:cubicBezTo>
                  <a:pt x="5111" y="9377"/>
                  <a:pt x="5466" y="9312"/>
                  <a:pt x="5606" y="9103"/>
                </a:cubicBezTo>
                <a:cubicBezTo>
                  <a:pt x="5716" y="8939"/>
                  <a:pt x="5646" y="8748"/>
                  <a:pt x="5507" y="8632"/>
                </a:cubicBezTo>
                <a:cubicBezTo>
                  <a:pt x="5382" y="8528"/>
                  <a:pt x="5147" y="8452"/>
                  <a:pt x="4986" y="8434"/>
                </a:cubicBezTo>
                <a:cubicBezTo>
                  <a:pt x="4804" y="8414"/>
                  <a:pt x="4606" y="8429"/>
                  <a:pt x="4440" y="8508"/>
                </a:cubicBezTo>
                <a:cubicBezTo>
                  <a:pt x="4254" y="8597"/>
                  <a:pt x="4069" y="8788"/>
                  <a:pt x="3994" y="8979"/>
                </a:cubicBezTo>
                <a:cubicBezTo>
                  <a:pt x="3910" y="9191"/>
                  <a:pt x="4079" y="9311"/>
                  <a:pt x="4266" y="9351"/>
                </a:cubicBezTo>
                <a:cubicBezTo>
                  <a:pt x="4349" y="9351"/>
                  <a:pt x="4365" y="9351"/>
                  <a:pt x="4415" y="93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53040" y="2625840"/>
            <a:ext cx="285840" cy="204840"/>
          </a:xfrm>
          <a:custGeom>
            <a:avLst/>
            <a:gdLst/>
            <a:ahLst/>
            <a:rect l="l" t="t" r="r" b="b"/>
            <a:pathLst>
              <a:path w="795" h="571">
                <a:moveTo>
                  <a:pt x="14312" y="7342"/>
                </a:moveTo>
                <a:cubicBezTo>
                  <a:pt x="14314" y="7341"/>
                  <a:pt x="14670" y="7234"/>
                  <a:pt x="14660" y="7317"/>
                </a:cubicBezTo>
                <a:cubicBezTo>
                  <a:pt x="14648" y="7423"/>
                  <a:pt x="14488" y="7506"/>
                  <a:pt x="14412" y="7565"/>
                </a:cubicBezTo>
                <a:cubicBezTo>
                  <a:pt x="14523" y="7591"/>
                  <a:pt x="14623" y="7605"/>
                  <a:pt x="14734" y="7640"/>
                </a:cubicBezTo>
                <a:cubicBezTo>
                  <a:pt x="14663" y="7853"/>
                  <a:pt x="14536" y="7847"/>
                  <a:pt x="14312" y="7838"/>
                </a:cubicBezTo>
              </a:path>
              <a:path w="795" h="571">
                <a:moveTo>
                  <a:pt x="15106" y="7392"/>
                </a:moveTo>
                <a:cubicBezTo>
                  <a:pt x="15013" y="7384"/>
                  <a:pt x="14699" y="7417"/>
                  <a:pt x="14858" y="7590"/>
                </a:cubicBezTo>
                <a:cubicBezTo>
                  <a:pt x="14993" y="7737"/>
                  <a:pt x="15067" y="7663"/>
                  <a:pt x="15081" y="7838"/>
                </a:cubicBezTo>
                <a:cubicBezTo>
                  <a:pt x="15031" y="7846"/>
                  <a:pt x="14982" y="7855"/>
                  <a:pt x="14932" y="7863"/>
                </a:cubicBezTo>
                <a:cubicBezTo>
                  <a:pt x="14852" y="7703"/>
                  <a:pt x="14966" y="7607"/>
                  <a:pt x="15106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99080" y="2670120"/>
            <a:ext cx="544680" cy="169920"/>
          </a:xfrm>
          <a:custGeom>
            <a:avLst/>
            <a:gdLst/>
            <a:ahLst/>
            <a:rect l="l" t="t" r="r" b="b"/>
            <a:pathLst>
              <a:path w="1514" h="472">
                <a:moveTo>
                  <a:pt x="15701" y="7466"/>
                </a:moveTo>
                <a:cubicBezTo>
                  <a:pt x="15701" y="7599"/>
                  <a:pt x="15714" y="7709"/>
                  <a:pt x="15751" y="7838"/>
                </a:cubicBezTo>
              </a:path>
              <a:path w="1514" h="472">
                <a:moveTo>
                  <a:pt x="15553" y="7739"/>
                </a:moveTo>
                <a:cubicBezTo>
                  <a:pt x="15718" y="7739"/>
                  <a:pt x="15884" y="7739"/>
                  <a:pt x="16049" y="7739"/>
                </a:cubicBezTo>
              </a:path>
              <a:path w="1514" h="472">
                <a:moveTo>
                  <a:pt x="16173" y="7466"/>
                </a:moveTo>
                <a:cubicBezTo>
                  <a:pt x="16225" y="7598"/>
                  <a:pt x="16225" y="7740"/>
                  <a:pt x="16297" y="7863"/>
                </a:cubicBezTo>
              </a:path>
              <a:path w="1514" h="472">
                <a:moveTo>
                  <a:pt x="16594" y="7441"/>
                </a:moveTo>
                <a:cubicBezTo>
                  <a:pt x="16664" y="7426"/>
                  <a:pt x="16956" y="7369"/>
                  <a:pt x="16917" y="7541"/>
                </a:cubicBezTo>
                <a:cubicBezTo>
                  <a:pt x="16890" y="7663"/>
                  <a:pt x="16752" y="7755"/>
                  <a:pt x="16669" y="7838"/>
                </a:cubicBezTo>
                <a:cubicBezTo>
                  <a:pt x="16811" y="7878"/>
                  <a:pt x="16911" y="7863"/>
                  <a:pt x="17066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0880" y="2884320"/>
            <a:ext cx="669960" cy="401760"/>
          </a:xfrm>
          <a:custGeom>
            <a:avLst/>
            <a:gdLst/>
            <a:ahLst/>
            <a:rect l="l" t="t" r="r" b="b"/>
            <a:pathLst>
              <a:path w="1862" h="1117">
                <a:moveTo>
                  <a:pt x="15453" y="8409"/>
                </a:moveTo>
                <a:cubicBezTo>
                  <a:pt x="15304" y="8409"/>
                  <a:pt x="15255" y="8369"/>
                  <a:pt x="15156" y="8458"/>
                </a:cubicBezTo>
                <a:cubicBezTo>
                  <a:pt x="15105" y="8504"/>
                  <a:pt x="15092" y="8553"/>
                  <a:pt x="15056" y="8607"/>
                </a:cubicBezTo>
                <a:cubicBezTo>
                  <a:pt x="15177" y="8634"/>
                  <a:pt x="15299" y="8543"/>
                  <a:pt x="15429" y="8607"/>
                </a:cubicBezTo>
                <a:cubicBezTo>
                  <a:pt x="15496" y="8675"/>
                  <a:pt x="15520" y="8689"/>
                  <a:pt x="15503" y="8756"/>
                </a:cubicBezTo>
                <a:cubicBezTo>
                  <a:pt x="15347" y="8898"/>
                  <a:pt x="15261" y="8876"/>
                  <a:pt x="15056" y="8830"/>
                </a:cubicBezTo>
              </a:path>
              <a:path w="1862" h="1117">
                <a:moveTo>
                  <a:pt x="15751" y="8458"/>
                </a:moveTo>
                <a:cubicBezTo>
                  <a:pt x="15703" y="8564"/>
                  <a:pt x="15612" y="8705"/>
                  <a:pt x="15726" y="8806"/>
                </a:cubicBezTo>
                <a:cubicBezTo>
                  <a:pt x="15826" y="8894"/>
                  <a:pt x="16140" y="8859"/>
                  <a:pt x="16123" y="8682"/>
                </a:cubicBezTo>
                <a:cubicBezTo>
                  <a:pt x="16110" y="8551"/>
                  <a:pt x="15957" y="8457"/>
                  <a:pt x="15850" y="8434"/>
                </a:cubicBezTo>
              </a:path>
              <a:path w="1862" h="1117">
                <a:moveTo>
                  <a:pt x="15032" y="8954"/>
                </a:moveTo>
                <a:cubicBezTo>
                  <a:pt x="15213" y="9061"/>
                  <a:pt x="15410" y="9114"/>
                  <a:pt x="15627" y="9128"/>
                </a:cubicBezTo>
                <a:cubicBezTo>
                  <a:pt x="15883" y="9145"/>
                  <a:pt x="16136" y="9153"/>
                  <a:pt x="16371" y="9054"/>
                </a:cubicBezTo>
                <a:cubicBezTo>
                  <a:pt x="16534" y="8985"/>
                  <a:pt x="16669" y="8848"/>
                  <a:pt x="16669" y="8657"/>
                </a:cubicBezTo>
                <a:cubicBezTo>
                  <a:pt x="16669" y="8471"/>
                  <a:pt x="16538" y="8398"/>
                  <a:pt x="16421" y="8285"/>
                </a:cubicBezTo>
                <a:cubicBezTo>
                  <a:pt x="16296" y="8165"/>
                  <a:pt x="16157" y="8140"/>
                  <a:pt x="15999" y="8086"/>
                </a:cubicBezTo>
                <a:cubicBezTo>
                  <a:pt x="15837" y="8031"/>
                  <a:pt x="15704" y="7991"/>
                  <a:pt x="15528" y="8012"/>
                </a:cubicBezTo>
                <a:cubicBezTo>
                  <a:pt x="15269" y="8042"/>
                  <a:pt x="15058" y="8205"/>
                  <a:pt x="14908" y="8409"/>
                </a:cubicBezTo>
                <a:cubicBezTo>
                  <a:pt x="14831" y="8514"/>
                  <a:pt x="14784" y="8596"/>
                  <a:pt x="14808" y="8731"/>
                </a:cubicBezTo>
                <a:cubicBezTo>
                  <a:pt x="14833" y="8868"/>
                  <a:pt x="14972" y="8923"/>
                  <a:pt x="15081" y="8979"/>
                </a:cubicBezTo>
                <a:cubicBezTo>
                  <a:pt x="15159" y="9019"/>
                  <a:pt x="15290" y="9091"/>
                  <a:pt x="15379" y="9103"/>
                </a:cubicBezTo>
                <a:cubicBezTo>
                  <a:pt x="15464" y="9103"/>
                  <a:pt x="15484" y="9097"/>
                  <a:pt x="15528" y="91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7880" y="5295960"/>
            <a:ext cx="662040" cy="768240"/>
          </a:xfrm>
          <a:custGeom>
            <a:avLst/>
            <a:gdLst/>
            <a:ahLst/>
            <a:rect l="l" t="t" r="r" b="b"/>
            <a:pathLst>
              <a:path w="1837" h="2134">
                <a:moveTo>
                  <a:pt x="3125" y="14957"/>
                </a:moveTo>
                <a:cubicBezTo>
                  <a:pt x="3162" y="14872"/>
                  <a:pt x="3172" y="14823"/>
                  <a:pt x="3076" y="14759"/>
                </a:cubicBezTo>
                <a:cubicBezTo>
                  <a:pt x="3022" y="14723"/>
                  <a:pt x="2888" y="14680"/>
                  <a:pt x="2828" y="14734"/>
                </a:cubicBezTo>
                <a:cubicBezTo>
                  <a:pt x="2773" y="14783"/>
                  <a:pt x="2693" y="14909"/>
                  <a:pt x="2704" y="14982"/>
                </a:cubicBezTo>
                <a:cubicBezTo>
                  <a:pt x="2719" y="15090"/>
                  <a:pt x="2918" y="15053"/>
                  <a:pt x="2977" y="15032"/>
                </a:cubicBezTo>
                <a:cubicBezTo>
                  <a:pt x="3040" y="15009"/>
                  <a:pt x="3082" y="14921"/>
                  <a:pt x="3101" y="14858"/>
                </a:cubicBezTo>
                <a:cubicBezTo>
                  <a:pt x="3101" y="14825"/>
                  <a:pt x="3101" y="14809"/>
                  <a:pt x="3101" y="14784"/>
                </a:cubicBezTo>
                <a:cubicBezTo>
                  <a:pt x="3139" y="14967"/>
                  <a:pt x="3172" y="15212"/>
                  <a:pt x="3150" y="15404"/>
                </a:cubicBezTo>
                <a:cubicBezTo>
                  <a:pt x="3142" y="15420"/>
                  <a:pt x="3133" y="15437"/>
                  <a:pt x="3125" y="15453"/>
                </a:cubicBezTo>
              </a:path>
              <a:path w="1837" h="2134">
                <a:moveTo>
                  <a:pt x="2431" y="15949"/>
                </a:moveTo>
                <a:cubicBezTo>
                  <a:pt x="2354" y="16168"/>
                  <a:pt x="2295" y="16369"/>
                  <a:pt x="2456" y="16545"/>
                </a:cubicBezTo>
                <a:cubicBezTo>
                  <a:pt x="2554" y="16508"/>
                  <a:pt x="2763" y="16426"/>
                  <a:pt x="2729" y="16272"/>
                </a:cubicBezTo>
                <a:cubicBezTo>
                  <a:pt x="2688" y="16083"/>
                  <a:pt x="2583" y="16431"/>
                  <a:pt x="2580" y="16470"/>
                </a:cubicBezTo>
              </a:path>
              <a:path w="1837" h="2134">
                <a:moveTo>
                  <a:pt x="2877" y="15949"/>
                </a:moveTo>
                <a:cubicBezTo>
                  <a:pt x="2975" y="15877"/>
                  <a:pt x="3051" y="15882"/>
                  <a:pt x="3051" y="16049"/>
                </a:cubicBezTo>
                <a:cubicBezTo>
                  <a:pt x="3027" y="16120"/>
                  <a:pt x="3020" y="16143"/>
                  <a:pt x="2977" y="16173"/>
                </a:cubicBezTo>
                <a:cubicBezTo>
                  <a:pt x="2960" y="16181"/>
                  <a:pt x="2944" y="16189"/>
                  <a:pt x="2927" y="16197"/>
                </a:cubicBezTo>
                <a:cubicBezTo>
                  <a:pt x="3069" y="16198"/>
                  <a:pt x="3248" y="16208"/>
                  <a:pt x="3101" y="16396"/>
                </a:cubicBezTo>
                <a:cubicBezTo>
                  <a:pt x="3018" y="16503"/>
                  <a:pt x="2967" y="16488"/>
                  <a:pt x="2853" y="16470"/>
                </a:cubicBezTo>
              </a:path>
              <a:path w="1837" h="2134">
                <a:moveTo>
                  <a:pt x="2133" y="16669"/>
                </a:moveTo>
                <a:cubicBezTo>
                  <a:pt x="2315" y="16849"/>
                  <a:pt x="2499" y="16835"/>
                  <a:pt x="2753" y="16818"/>
                </a:cubicBezTo>
                <a:cubicBezTo>
                  <a:pt x="2996" y="16802"/>
                  <a:pt x="3324" y="16758"/>
                  <a:pt x="3522" y="16594"/>
                </a:cubicBezTo>
                <a:cubicBezTo>
                  <a:pt x="3640" y="16497"/>
                  <a:pt x="3751" y="16298"/>
                  <a:pt x="3696" y="16148"/>
                </a:cubicBezTo>
                <a:cubicBezTo>
                  <a:pt x="3650" y="16024"/>
                  <a:pt x="3605" y="15956"/>
                  <a:pt x="3497" y="15900"/>
                </a:cubicBezTo>
                <a:cubicBezTo>
                  <a:pt x="3390" y="15845"/>
                  <a:pt x="3219" y="15813"/>
                  <a:pt x="3101" y="15801"/>
                </a:cubicBezTo>
                <a:cubicBezTo>
                  <a:pt x="2965" y="15787"/>
                  <a:pt x="2817" y="15759"/>
                  <a:pt x="2679" y="15776"/>
                </a:cubicBezTo>
                <a:cubicBezTo>
                  <a:pt x="2525" y="15795"/>
                  <a:pt x="2319" y="15781"/>
                  <a:pt x="2183" y="15875"/>
                </a:cubicBezTo>
                <a:cubicBezTo>
                  <a:pt x="2125" y="15915"/>
                  <a:pt x="1904" y="16040"/>
                  <a:pt x="1885" y="16123"/>
                </a:cubicBezTo>
                <a:cubicBezTo>
                  <a:pt x="1844" y="16303"/>
                  <a:pt x="1938" y="16582"/>
                  <a:pt x="2009" y="16743"/>
                </a:cubicBezTo>
                <a:cubicBezTo>
                  <a:pt x="2091" y="16931"/>
                  <a:pt x="2356" y="16811"/>
                  <a:pt x="2505" y="16793"/>
                </a:cubicBezTo>
                <a:cubicBezTo>
                  <a:pt x="2522" y="16793"/>
                  <a:pt x="2538" y="16793"/>
                  <a:pt x="2555" y="167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55920" y="5232240"/>
            <a:ext cx="741240" cy="750960"/>
          </a:xfrm>
          <a:custGeom>
            <a:avLst/>
            <a:gdLst/>
            <a:ahLst/>
            <a:rect l="l" t="t" r="r" b="b"/>
            <a:pathLst>
              <a:path w="2060" h="2084">
                <a:moveTo>
                  <a:pt x="7293" y="14808"/>
                </a:moveTo>
                <a:cubicBezTo>
                  <a:pt x="7373" y="14754"/>
                  <a:pt x="7362" y="14585"/>
                  <a:pt x="7218" y="14536"/>
                </a:cubicBezTo>
                <a:cubicBezTo>
                  <a:pt x="6938" y="14441"/>
                  <a:pt x="6859" y="14792"/>
                  <a:pt x="6846" y="14957"/>
                </a:cubicBezTo>
                <a:cubicBezTo>
                  <a:pt x="7061" y="14998"/>
                  <a:pt x="7195" y="14980"/>
                  <a:pt x="7268" y="14734"/>
                </a:cubicBezTo>
                <a:cubicBezTo>
                  <a:pt x="7268" y="14717"/>
                  <a:pt x="7268" y="14701"/>
                  <a:pt x="7268" y="14684"/>
                </a:cubicBezTo>
                <a:cubicBezTo>
                  <a:pt x="7343" y="14895"/>
                  <a:pt x="7366" y="15078"/>
                  <a:pt x="7317" y="15304"/>
                </a:cubicBezTo>
              </a:path>
              <a:path w="2060" h="2084">
                <a:moveTo>
                  <a:pt x="7640" y="14982"/>
                </a:moveTo>
                <a:cubicBezTo>
                  <a:pt x="7753" y="14938"/>
                  <a:pt x="7839" y="14916"/>
                  <a:pt x="7962" y="14908"/>
                </a:cubicBezTo>
              </a:path>
              <a:path w="2060" h="2084">
                <a:moveTo>
                  <a:pt x="8285" y="14660"/>
                </a:moveTo>
                <a:cubicBezTo>
                  <a:pt x="8354" y="14620"/>
                  <a:pt x="8618" y="14459"/>
                  <a:pt x="8657" y="14635"/>
                </a:cubicBezTo>
                <a:cubicBezTo>
                  <a:pt x="8689" y="14778"/>
                  <a:pt x="8520" y="14820"/>
                  <a:pt x="8434" y="14858"/>
                </a:cubicBezTo>
                <a:cubicBezTo>
                  <a:pt x="8453" y="14819"/>
                  <a:pt x="8635" y="14774"/>
                  <a:pt x="8706" y="14908"/>
                </a:cubicBezTo>
                <a:cubicBezTo>
                  <a:pt x="8807" y="15099"/>
                  <a:pt x="8495" y="15178"/>
                  <a:pt x="8384" y="15156"/>
                </a:cubicBezTo>
                <a:cubicBezTo>
                  <a:pt x="8376" y="15148"/>
                  <a:pt x="8367" y="15139"/>
                  <a:pt x="8359" y="15131"/>
                </a:cubicBezTo>
              </a:path>
              <a:path w="2060" h="2084">
                <a:moveTo>
                  <a:pt x="7913" y="15925"/>
                </a:moveTo>
                <a:cubicBezTo>
                  <a:pt x="7878" y="16010"/>
                  <a:pt x="7764" y="16211"/>
                  <a:pt x="7838" y="16297"/>
                </a:cubicBezTo>
                <a:cubicBezTo>
                  <a:pt x="7921" y="16393"/>
                  <a:pt x="8052" y="16381"/>
                  <a:pt x="8136" y="16297"/>
                </a:cubicBezTo>
                <a:cubicBezTo>
                  <a:pt x="8179" y="16232"/>
                  <a:pt x="8191" y="16218"/>
                  <a:pt x="8210" y="16173"/>
                </a:cubicBezTo>
                <a:cubicBezTo>
                  <a:pt x="8036" y="16162"/>
                  <a:pt x="8007" y="16190"/>
                  <a:pt x="7913" y="16346"/>
                </a:cubicBezTo>
              </a:path>
              <a:path w="2060" h="2084">
                <a:moveTo>
                  <a:pt x="7441" y="16545"/>
                </a:moveTo>
                <a:cubicBezTo>
                  <a:pt x="7693" y="16621"/>
                  <a:pt x="7921" y="16640"/>
                  <a:pt x="8186" y="16594"/>
                </a:cubicBezTo>
                <a:cubicBezTo>
                  <a:pt x="8477" y="16544"/>
                  <a:pt x="8696" y="16386"/>
                  <a:pt x="8830" y="16123"/>
                </a:cubicBezTo>
                <a:cubicBezTo>
                  <a:pt x="8983" y="15822"/>
                  <a:pt x="8702" y="15721"/>
                  <a:pt x="8458" y="15677"/>
                </a:cubicBezTo>
                <a:cubicBezTo>
                  <a:pt x="8235" y="15637"/>
                  <a:pt x="7879" y="15589"/>
                  <a:pt x="7689" y="15751"/>
                </a:cubicBezTo>
                <a:cubicBezTo>
                  <a:pt x="7540" y="15878"/>
                  <a:pt x="7315" y="16158"/>
                  <a:pt x="7417" y="16371"/>
                </a:cubicBezTo>
                <a:cubicBezTo>
                  <a:pt x="7508" y="16561"/>
                  <a:pt x="7819" y="16495"/>
                  <a:pt x="7987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13160" y="5205240"/>
            <a:ext cx="955800" cy="376560"/>
          </a:xfrm>
          <a:custGeom>
            <a:avLst/>
            <a:gdLst/>
            <a:ahLst/>
            <a:rect l="l" t="t" r="r" b="b"/>
            <a:pathLst>
              <a:path w="2655" h="1043">
                <a:moveTo>
                  <a:pt x="12030" y="14833"/>
                </a:moveTo>
                <a:cubicBezTo>
                  <a:pt x="12142" y="14737"/>
                  <a:pt x="12220" y="14748"/>
                  <a:pt x="12353" y="14808"/>
                </a:cubicBezTo>
                <a:cubicBezTo>
                  <a:pt x="12312" y="15000"/>
                  <a:pt x="12194" y="15112"/>
                  <a:pt x="12055" y="15255"/>
                </a:cubicBezTo>
                <a:cubicBezTo>
                  <a:pt x="11896" y="15419"/>
                  <a:pt x="12240" y="15235"/>
                  <a:pt x="12353" y="15205"/>
                </a:cubicBezTo>
              </a:path>
              <a:path w="2655" h="1043">
                <a:moveTo>
                  <a:pt x="12700" y="14486"/>
                </a:moveTo>
                <a:cubicBezTo>
                  <a:pt x="12574" y="14738"/>
                  <a:pt x="12487" y="14989"/>
                  <a:pt x="12576" y="15280"/>
                </a:cubicBezTo>
                <a:cubicBezTo>
                  <a:pt x="12593" y="15305"/>
                  <a:pt x="12609" y="15329"/>
                  <a:pt x="12626" y="15354"/>
                </a:cubicBezTo>
              </a:path>
              <a:path w="2655" h="1043">
                <a:moveTo>
                  <a:pt x="13072" y="14883"/>
                </a:moveTo>
                <a:cubicBezTo>
                  <a:pt x="13064" y="14806"/>
                  <a:pt x="13012" y="14670"/>
                  <a:pt x="12898" y="14759"/>
                </a:cubicBezTo>
                <a:cubicBezTo>
                  <a:pt x="12815" y="14823"/>
                  <a:pt x="12790" y="14933"/>
                  <a:pt x="12799" y="15007"/>
                </a:cubicBezTo>
                <a:cubicBezTo>
                  <a:pt x="12910" y="14961"/>
                  <a:pt x="12980" y="14917"/>
                  <a:pt x="13072" y="14833"/>
                </a:cubicBezTo>
                <a:cubicBezTo>
                  <a:pt x="13094" y="14992"/>
                  <a:pt x="13097" y="15143"/>
                  <a:pt x="13097" y="15304"/>
                </a:cubicBezTo>
              </a:path>
              <a:path w="2655" h="1043">
                <a:moveTo>
                  <a:pt x="13246" y="14511"/>
                </a:moveTo>
                <a:cubicBezTo>
                  <a:pt x="13412" y="14788"/>
                  <a:pt x="13549" y="15030"/>
                  <a:pt x="13395" y="15354"/>
                </a:cubicBezTo>
                <a:cubicBezTo>
                  <a:pt x="13317" y="15451"/>
                  <a:pt x="13314" y="15476"/>
                  <a:pt x="13246" y="15503"/>
                </a:cubicBezTo>
              </a:path>
              <a:path w="2655" h="1043">
                <a:moveTo>
                  <a:pt x="13841" y="14734"/>
                </a:moveTo>
                <a:cubicBezTo>
                  <a:pt x="13872" y="14858"/>
                  <a:pt x="13880" y="14999"/>
                  <a:pt x="13891" y="15131"/>
                </a:cubicBezTo>
              </a:path>
              <a:path w="2655" h="1043">
                <a:moveTo>
                  <a:pt x="13692" y="14932"/>
                </a:moveTo>
                <a:cubicBezTo>
                  <a:pt x="13834" y="14926"/>
                  <a:pt x="13972" y="14915"/>
                  <a:pt x="14114" y="14908"/>
                </a:cubicBezTo>
              </a:path>
              <a:path w="2655" h="1043">
                <a:moveTo>
                  <a:pt x="14362" y="14660"/>
                </a:moveTo>
                <a:cubicBezTo>
                  <a:pt x="14362" y="14708"/>
                  <a:pt x="14341" y="14897"/>
                  <a:pt x="14436" y="14908"/>
                </a:cubicBezTo>
                <a:cubicBezTo>
                  <a:pt x="14539" y="14882"/>
                  <a:pt x="14574" y="14873"/>
                  <a:pt x="14635" y="14833"/>
                </a:cubicBezTo>
              </a:path>
              <a:path w="2655" h="1043">
                <a:moveTo>
                  <a:pt x="14635" y="14461"/>
                </a:moveTo>
                <a:cubicBezTo>
                  <a:pt x="14615" y="14661"/>
                  <a:pt x="14589" y="14855"/>
                  <a:pt x="14585" y="15056"/>
                </a:cubicBezTo>
                <a:cubicBezTo>
                  <a:pt x="14585" y="15089"/>
                  <a:pt x="14585" y="15123"/>
                  <a:pt x="14585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83240" y="5153040"/>
            <a:ext cx="633600" cy="285840"/>
          </a:xfrm>
          <a:custGeom>
            <a:avLst/>
            <a:gdLst/>
            <a:ahLst/>
            <a:rect l="l" t="t" r="r" b="b"/>
            <a:pathLst>
              <a:path w="1762" h="795">
                <a:moveTo>
                  <a:pt x="18008" y="14660"/>
                </a:moveTo>
                <a:cubicBezTo>
                  <a:pt x="18078" y="14629"/>
                  <a:pt x="18470" y="14482"/>
                  <a:pt x="18380" y="14709"/>
                </a:cubicBezTo>
                <a:cubicBezTo>
                  <a:pt x="18367" y="14742"/>
                  <a:pt x="18051" y="15016"/>
                  <a:pt x="18231" y="14833"/>
                </a:cubicBezTo>
                <a:cubicBezTo>
                  <a:pt x="18382" y="14833"/>
                  <a:pt x="18424" y="14817"/>
                  <a:pt x="18479" y="14908"/>
                </a:cubicBezTo>
                <a:cubicBezTo>
                  <a:pt x="18312" y="15075"/>
                  <a:pt x="18217" y="15135"/>
                  <a:pt x="18008" y="15032"/>
                </a:cubicBezTo>
              </a:path>
              <a:path w="1762" h="795">
                <a:moveTo>
                  <a:pt x="18604" y="14486"/>
                </a:moveTo>
                <a:cubicBezTo>
                  <a:pt x="18685" y="14486"/>
                  <a:pt x="19058" y="14427"/>
                  <a:pt x="18951" y="14610"/>
                </a:cubicBezTo>
                <a:cubicBezTo>
                  <a:pt x="18888" y="14672"/>
                  <a:pt x="18878" y="14689"/>
                  <a:pt x="18827" y="14709"/>
                </a:cubicBezTo>
                <a:cubicBezTo>
                  <a:pt x="18920" y="14709"/>
                  <a:pt x="18982" y="14719"/>
                  <a:pt x="19075" y="14734"/>
                </a:cubicBezTo>
                <a:cubicBezTo>
                  <a:pt x="19075" y="14968"/>
                  <a:pt x="18912" y="14959"/>
                  <a:pt x="18703" y="14982"/>
                </a:cubicBezTo>
              </a:path>
              <a:path w="1762" h="795">
                <a:moveTo>
                  <a:pt x="19323" y="14660"/>
                </a:moveTo>
                <a:cubicBezTo>
                  <a:pt x="19471" y="14692"/>
                  <a:pt x="19618" y="14723"/>
                  <a:pt x="19769" y="14734"/>
                </a:cubicBezTo>
              </a:path>
              <a:path w="1762" h="795">
                <a:moveTo>
                  <a:pt x="19546" y="14312"/>
                </a:moveTo>
                <a:lnTo>
                  <a:pt x="19546" y="14312"/>
                </a:lnTo>
              </a:path>
              <a:path w="1762" h="795">
                <a:moveTo>
                  <a:pt x="19571" y="14982"/>
                </a:moveTo>
                <a:cubicBezTo>
                  <a:pt x="19571" y="14990"/>
                  <a:pt x="19571" y="14999"/>
                  <a:pt x="19571" y="150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96120" y="5153040"/>
            <a:ext cx="142920" cy="222120"/>
          </a:xfrm>
          <a:custGeom>
            <a:avLst/>
            <a:gdLst/>
            <a:ahLst/>
            <a:rect l="l" t="t" r="r" b="b"/>
            <a:pathLst>
              <a:path w="398" h="621">
                <a:moveTo>
                  <a:pt x="20265" y="14387"/>
                </a:moveTo>
                <a:cubicBezTo>
                  <a:pt x="20342" y="14364"/>
                  <a:pt x="20691" y="14196"/>
                  <a:pt x="20613" y="14412"/>
                </a:cubicBezTo>
                <a:cubicBezTo>
                  <a:pt x="20519" y="14551"/>
                  <a:pt x="20496" y="14594"/>
                  <a:pt x="20389" y="14635"/>
                </a:cubicBezTo>
                <a:cubicBezTo>
                  <a:pt x="20578" y="14635"/>
                  <a:pt x="20574" y="14618"/>
                  <a:pt x="20662" y="14784"/>
                </a:cubicBezTo>
                <a:cubicBezTo>
                  <a:pt x="20518" y="14895"/>
                  <a:pt x="20495" y="14917"/>
                  <a:pt x="20315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96080" y="5599080"/>
            <a:ext cx="704880" cy="465120"/>
          </a:xfrm>
          <a:custGeom>
            <a:avLst/>
            <a:gdLst/>
            <a:ahLst/>
            <a:rect l="l" t="t" r="r" b="b"/>
            <a:pathLst>
              <a:path w="1961" h="1290">
                <a:moveTo>
                  <a:pt x="19496" y="15801"/>
                </a:moveTo>
                <a:cubicBezTo>
                  <a:pt x="19536" y="15996"/>
                  <a:pt x="19586" y="16168"/>
                  <a:pt x="19596" y="16371"/>
                </a:cubicBezTo>
              </a:path>
              <a:path w="1961" h="1290">
                <a:moveTo>
                  <a:pt x="19893" y="15776"/>
                </a:moveTo>
                <a:cubicBezTo>
                  <a:pt x="19939" y="15985"/>
                  <a:pt x="19978" y="16193"/>
                  <a:pt x="20042" y="16396"/>
                </a:cubicBezTo>
              </a:path>
              <a:path w="1961" h="1290">
                <a:moveTo>
                  <a:pt x="19199" y="16694"/>
                </a:moveTo>
                <a:cubicBezTo>
                  <a:pt x="19626" y="16795"/>
                  <a:pt x="20071" y="16780"/>
                  <a:pt x="20464" y="16520"/>
                </a:cubicBezTo>
                <a:cubicBezTo>
                  <a:pt x="20695" y="16289"/>
                  <a:pt x="20766" y="16229"/>
                  <a:pt x="20836" y="16024"/>
                </a:cubicBezTo>
                <a:cubicBezTo>
                  <a:pt x="20526" y="15541"/>
                  <a:pt x="20006" y="15466"/>
                  <a:pt x="19422" y="15602"/>
                </a:cubicBezTo>
                <a:cubicBezTo>
                  <a:pt x="18905" y="15722"/>
                  <a:pt x="18626" y="16379"/>
                  <a:pt x="19124" y="16718"/>
                </a:cubicBezTo>
                <a:cubicBezTo>
                  <a:pt x="19248" y="16759"/>
                  <a:pt x="19372" y="16801"/>
                  <a:pt x="19496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7720" y="568800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2576" y="15801"/>
                </a:moveTo>
                <a:cubicBezTo>
                  <a:pt x="12584" y="15801"/>
                  <a:pt x="12593" y="15801"/>
                  <a:pt x="12601" y="158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5661000"/>
            <a:ext cx="108000" cy="1890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13171" y="15726"/>
                </a:moveTo>
                <a:cubicBezTo>
                  <a:pt x="13136" y="15737"/>
                  <a:pt x="12856" y="15884"/>
                  <a:pt x="12898" y="15949"/>
                </a:cubicBezTo>
                <a:cubicBezTo>
                  <a:pt x="13014" y="16130"/>
                  <a:pt x="13189" y="15970"/>
                  <a:pt x="13171" y="16197"/>
                </a:cubicBezTo>
                <a:cubicBezTo>
                  <a:pt x="13155" y="16214"/>
                  <a:pt x="13138" y="16230"/>
                  <a:pt x="13122" y="16247"/>
                </a:cubicBezTo>
                <a:cubicBezTo>
                  <a:pt x="13086" y="16052"/>
                  <a:pt x="13116" y="15944"/>
                  <a:pt x="13196" y="157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27720" y="5705640"/>
            <a:ext cx="9360" cy="144360"/>
          </a:xfrm>
          <a:custGeom>
            <a:avLst/>
            <a:gdLst/>
            <a:ahLst/>
            <a:rect l="l" t="t" r="r" b="b"/>
            <a:pathLst>
              <a:path w="26" h="398">
                <a:moveTo>
                  <a:pt x="12576" y="15850"/>
                </a:moveTo>
                <a:cubicBezTo>
                  <a:pt x="12576" y="15933"/>
                  <a:pt x="12531" y="16291"/>
                  <a:pt x="12601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7760" y="5688000"/>
            <a:ext cx="27000" cy="115920"/>
          </a:xfrm>
          <a:custGeom>
            <a:avLst/>
            <a:gdLst/>
            <a:ahLst/>
            <a:rect l="l" t="t" r="r" b="b"/>
            <a:pathLst>
              <a:path w="75" h="323">
                <a:moveTo>
                  <a:pt x="13965" y="15801"/>
                </a:moveTo>
                <a:cubicBezTo>
                  <a:pt x="13990" y="15907"/>
                  <a:pt x="14022" y="16016"/>
                  <a:pt x="14039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64040" y="5749920"/>
            <a:ext cx="108000" cy="36360"/>
          </a:xfrm>
          <a:custGeom>
            <a:avLst/>
            <a:gdLst/>
            <a:ahLst/>
            <a:rect l="l" t="t" r="r" b="b"/>
            <a:pathLst>
              <a:path w="299" h="100">
                <a:moveTo>
                  <a:pt x="13791" y="16073"/>
                </a:moveTo>
                <a:cubicBezTo>
                  <a:pt x="13930" y="16018"/>
                  <a:pt x="13986" y="15997"/>
                  <a:pt x="14089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97320" y="5670720"/>
            <a:ext cx="142920" cy="8064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14436" y="15751"/>
                </a:moveTo>
                <a:cubicBezTo>
                  <a:pt x="14502" y="15914"/>
                  <a:pt x="14479" y="16007"/>
                  <a:pt x="14684" y="15925"/>
                </a:cubicBezTo>
                <a:cubicBezTo>
                  <a:pt x="14734" y="15900"/>
                  <a:pt x="14783" y="15875"/>
                  <a:pt x="14833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22960" y="5581800"/>
            <a:ext cx="27000" cy="222120"/>
          </a:xfrm>
          <a:custGeom>
            <a:avLst/>
            <a:gdLst/>
            <a:ahLst/>
            <a:rect l="l" t="t" r="r" b="b"/>
            <a:pathLst>
              <a:path w="75" h="621">
                <a:moveTo>
                  <a:pt x="14784" y="15503"/>
                </a:moveTo>
                <a:cubicBezTo>
                  <a:pt x="14811" y="15710"/>
                  <a:pt x="14834" y="15915"/>
                  <a:pt x="14858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8120" y="6018120"/>
            <a:ext cx="135000" cy="216000"/>
          </a:xfrm>
          <a:custGeom>
            <a:avLst/>
            <a:gdLst/>
            <a:ahLst/>
            <a:rect l="l" t="t" r="r" b="b"/>
            <a:pathLst>
              <a:path w="373" h="597">
                <a:moveTo>
                  <a:pt x="13519" y="16818"/>
                </a:moveTo>
                <a:cubicBezTo>
                  <a:pt x="13573" y="16763"/>
                  <a:pt x="13595" y="16743"/>
                  <a:pt x="13643" y="16718"/>
                </a:cubicBezTo>
                <a:cubicBezTo>
                  <a:pt x="13878" y="16885"/>
                  <a:pt x="13853" y="17023"/>
                  <a:pt x="13643" y="17239"/>
                </a:cubicBezTo>
                <a:cubicBezTo>
                  <a:pt x="13557" y="17304"/>
                  <a:pt x="13540" y="17329"/>
                  <a:pt x="13469" y="17314"/>
                </a:cubicBezTo>
                <a:cubicBezTo>
                  <a:pt x="13502" y="17157"/>
                  <a:pt x="13585" y="16959"/>
                  <a:pt x="13791" y="17090"/>
                </a:cubicBezTo>
                <a:cubicBezTo>
                  <a:pt x="13813" y="17134"/>
                  <a:pt x="13816" y="17146"/>
                  <a:pt x="13841" y="171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6027840"/>
            <a:ext cx="162000" cy="16992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14089" y="16743"/>
                </a:moveTo>
                <a:cubicBezTo>
                  <a:pt x="14244" y="16753"/>
                  <a:pt x="14481" y="16774"/>
                  <a:pt x="14486" y="16991"/>
                </a:cubicBezTo>
                <a:cubicBezTo>
                  <a:pt x="14490" y="17185"/>
                  <a:pt x="14301" y="17249"/>
                  <a:pt x="14188" y="17165"/>
                </a:cubicBezTo>
                <a:cubicBezTo>
                  <a:pt x="14291" y="17062"/>
                  <a:pt x="14406" y="16974"/>
                  <a:pt x="14536" y="17115"/>
                </a:cubicBezTo>
                <a:cubicBezTo>
                  <a:pt x="14536" y="17123"/>
                  <a:pt x="14536" y="17132"/>
                  <a:pt x="14536" y="171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5946840"/>
            <a:ext cx="777960" cy="430200"/>
          </a:xfrm>
          <a:custGeom>
            <a:avLst/>
            <a:gdLst/>
            <a:ahLst/>
            <a:rect l="l" t="t" r="r" b="b"/>
            <a:pathLst>
              <a:path w="2159" h="1192">
                <a:moveTo>
                  <a:pt x="13395" y="17611"/>
                </a:moveTo>
                <a:cubicBezTo>
                  <a:pt x="13768" y="17642"/>
                  <a:pt x="14126" y="17643"/>
                  <a:pt x="14486" y="17512"/>
                </a:cubicBezTo>
                <a:cubicBezTo>
                  <a:pt x="14724" y="17425"/>
                  <a:pt x="15286" y="17118"/>
                  <a:pt x="14982" y="16768"/>
                </a:cubicBezTo>
                <a:cubicBezTo>
                  <a:pt x="14617" y="16348"/>
                  <a:pt x="13761" y="16498"/>
                  <a:pt x="13320" y="16669"/>
                </a:cubicBezTo>
                <a:cubicBezTo>
                  <a:pt x="12922" y="16824"/>
                  <a:pt x="12672" y="17401"/>
                  <a:pt x="13146" y="17661"/>
                </a:cubicBezTo>
                <a:cubicBezTo>
                  <a:pt x="13471" y="17716"/>
                  <a:pt x="13597" y="17725"/>
                  <a:pt x="13816" y="176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evaluate algebraic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bcc4"/>
                </a:solidFill>
                <a:latin typeface="Times New Roman"/>
              </a:rPr>
              <a:t>Skill Practice: 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Evaluate each of the following algebraic expressions if       a = 4, b = 9, c = 12 and d =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5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.  c +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d –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54 +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5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a - 2 x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62640" y="3973680"/>
            <a:ext cx="1312560" cy="706320"/>
          </a:xfrm>
          <a:custGeom>
            <a:avLst/>
            <a:gdLst/>
            <a:ahLst/>
            <a:rect l="l" t="t" r="r" b="b"/>
            <a:pathLst>
              <a:path w="3647" h="1961">
                <a:moveTo>
                  <a:pt x="13022" y="11658"/>
                </a:moveTo>
                <a:cubicBezTo>
                  <a:pt x="13000" y="11591"/>
                  <a:pt x="12854" y="11536"/>
                  <a:pt x="12774" y="11633"/>
                </a:cubicBezTo>
                <a:cubicBezTo>
                  <a:pt x="12655" y="11777"/>
                  <a:pt x="12596" y="12224"/>
                  <a:pt x="12923" y="12030"/>
                </a:cubicBezTo>
                <a:cubicBezTo>
                  <a:pt x="12973" y="11980"/>
                  <a:pt x="13022" y="11931"/>
                  <a:pt x="13072" y="11881"/>
                </a:cubicBezTo>
              </a:path>
              <a:path w="3647" h="1961">
                <a:moveTo>
                  <a:pt x="12849" y="11038"/>
                </a:moveTo>
                <a:cubicBezTo>
                  <a:pt x="12882" y="11265"/>
                  <a:pt x="12996" y="11520"/>
                  <a:pt x="13047" y="11757"/>
                </a:cubicBezTo>
                <a:cubicBezTo>
                  <a:pt x="13055" y="11815"/>
                  <a:pt x="13064" y="11873"/>
                  <a:pt x="13072" y="11931"/>
                </a:cubicBezTo>
              </a:path>
              <a:path w="3647" h="1961">
                <a:moveTo>
                  <a:pt x="12824" y="12278"/>
                </a:moveTo>
                <a:cubicBezTo>
                  <a:pt x="12998" y="12224"/>
                  <a:pt x="13168" y="12174"/>
                  <a:pt x="13345" y="12129"/>
                </a:cubicBezTo>
              </a:path>
              <a:path w="3647" h="1961">
                <a:moveTo>
                  <a:pt x="13122" y="12675"/>
                </a:moveTo>
                <a:cubicBezTo>
                  <a:pt x="13122" y="12572"/>
                  <a:pt x="13120" y="12535"/>
                  <a:pt x="13072" y="12477"/>
                </a:cubicBezTo>
                <a:cubicBezTo>
                  <a:pt x="12882" y="12476"/>
                  <a:pt x="12714" y="12621"/>
                  <a:pt x="12725" y="12849"/>
                </a:cubicBezTo>
                <a:cubicBezTo>
                  <a:pt x="12741" y="12874"/>
                  <a:pt x="12758" y="12898"/>
                  <a:pt x="12774" y="12923"/>
                </a:cubicBezTo>
                <a:cubicBezTo>
                  <a:pt x="12970" y="12826"/>
                  <a:pt x="13026" y="12592"/>
                  <a:pt x="13097" y="12774"/>
                </a:cubicBezTo>
                <a:cubicBezTo>
                  <a:pt x="13126" y="12848"/>
                  <a:pt x="13138" y="12924"/>
                  <a:pt x="13171" y="12998"/>
                </a:cubicBezTo>
              </a:path>
              <a:path w="3647" h="1961">
                <a:moveTo>
                  <a:pt x="13742" y="11460"/>
                </a:moveTo>
                <a:cubicBezTo>
                  <a:pt x="13815" y="11417"/>
                  <a:pt x="14089" y="11280"/>
                  <a:pt x="14089" y="11485"/>
                </a:cubicBezTo>
                <a:cubicBezTo>
                  <a:pt x="14089" y="11641"/>
                  <a:pt x="13984" y="11729"/>
                  <a:pt x="13891" y="11832"/>
                </a:cubicBezTo>
                <a:cubicBezTo>
                  <a:pt x="14025" y="11809"/>
                  <a:pt x="14159" y="11751"/>
                  <a:pt x="14288" y="11708"/>
                </a:cubicBezTo>
              </a:path>
              <a:path w="3647" h="1961">
                <a:moveTo>
                  <a:pt x="14486" y="11237"/>
                </a:moveTo>
                <a:cubicBezTo>
                  <a:pt x="14377" y="11463"/>
                  <a:pt x="14359" y="11499"/>
                  <a:pt x="14436" y="11733"/>
                </a:cubicBezTo>
                <a:cubicBezTo>
                  <a:pt x="14614" y="11732"/>
                  <a:pt x="14902" y="11609"/>
                  <a:pt x="14684" y="11385"/>
                </a:cubicBezTo>
                <a:cubicBezTo>
                  <a:pt x="14643" y="11369"/>
                  <a:pt x="14601" y="11352"/>
                  <a:pt x="14560" y="11336"/>
                </a:cubicBezTo>
              </a:path>
              <a:path w="3647" h="1961">
                <a:moveTo>
                  <a:pt x="13568" y="12129"/>
                </a:moveTo>
                <a:cubicBezTo>
                  <a:pt x="13657" y="12100"/>
                  <a:pt x="13697" y="12092"/>
                  <a:pt x="13767" y="12105"/>
                </a:cubicBezTo>
              </a:path>
              <a:path w="3647" h="1961">
                <a:moveTo>
                  <a:pt x="13667" y="12254"/>
                </a:moveTo>
                <a:cubicBezTo>
                  <a:pt x="13700" y="12246"/>
                  <a:pt x="13734" y="12237"/>
                  <a:pt x="13767" y="12229"/>
                </a:cubicBezTo>
              </a:path>
              <a:path w="3647" h="1961">
                <a:moveTo>
                  <a:pt x="14163" y="12154"/>
                </a:moveTo>
                <a:cubicBezTo>
                  <a:pt x="14343" y="12098"/>
                  <a:pt x="14522" y="12058"/>
                  <a:pt x="14709" y="12030"/>
                </a:cubicBezTo>
                <a:cubicBezTo>
                  <a:pt x="14717" y="12030"/>
                  <a:pt x="14726" y="12030"/>
                  <a:pt x="14734" y="12030"/>
                </a:cubicBezTo>
              </a:path>
              <a:path w="3647" h="1961">
                <a:moveTo>
                  <a:pt x="14238" y="12278"/>
                </a:moveTo>
                <a:cubicBezTo>
                  <a:pt x="14233" y="12389"/>
                  <a:pt x="14223" y="12491"/>
                  <a:pt x="14213" y="12601"/>
                </a:cubicBezTo>
                <a:cubicBezTo>
                  <a:pt x="14303" y="12569"/>
                  <a:pt x="14352" y="12546"/>
                  <a:pt x="14436" y="12526"/>
                </a:cubicBezTo>
                <a:cubicBezTo>
                  <a:pt x="14494" y="12507"/>
                  <a:pt x="14501" y="12499"/>
                  <a:pt x="14536" y="12502"/>
                </a:cubicBezTo>
              </a:path>
              <a:path w="3647" h="1961">
                <a:moveTo>
                  <a:pt x="14412" y="12303"/>
                </a:moveTo>
                <a:cubicBezTo>
                  <a:pt x="14424" y="12459"/>
                  <a:pt x="14451" y="12596"/>
                  <a:pt x="14486" y="12750"/>
                </a:cubicBezTo>
              </a:path>
              <a:path w="3647" h="1961">
                <a:moveTo>
                  <a:pt x="14833" y="12254"/>
                </a:moveTo>
                <a:cubicBezTo>
                  <a:pt x="14917" y="12254"/>
                  <a:pt x="14951" y="12252"/>
                  <a:pt x="15007" y="12229"/>
                </a:cubicBezTo>
              </a:path>
              <a:path w="3647" h="1961">
                <a:moveTo>
                  <a:pt x="14883" y="12427"/>
                </a:moveTo>
                <a:cubicBezTo>
                  <a:pt x="14916" y="12419"/>
                  <a:pt x="14949" y="12410"/>
                  <a:pt x="14982" y="12402"/>
                </a:cubicBezTo>
              </a:path>
              <a:path w="3647" h="1961">
                <a:moveTo>
                  <a:pt x="15453" y="11981"/>
                </a:moveTo>
                <a:cubicBezTo>
                  <a:pt x="15433" y="12065"/>
                  <a:pt x="15432" y="12084"/>
                  <a:pt x="15404" y="12129"/>
                </a:cubicBezTo>
                <a:cubicBezTo>
                  <a:pt x="15477" y="12133"/>
                  <a:pt x="15783" y="12133"/>
                  <a:pt x="15652" y="12303"/>
                </a:cubicBezTo>
                <a:cubicBezTo>
                  <a:pt x="15553" y="12378"/>
                  <a:pt x="15520" y="12403"/>
                  <a:pt x="15429" y="12378"/>
                </a:cubicBezTo>
              </a:path>
              <a:path w="3647" h="1961">
                <a:moveTo>
                  <a:pt x="15553" y="11906"/>
                </a:moveTo>
                <a:cubicBezTo>
                  <a:pt x="15656" y="11855"/>
                  <a:pt x="15694" y="11839"/>
                  <a:pt x="15776" y="11857"/>
                </a:cubicBezTo>
              </a:path>
              <a:path w="3647" h="1961">
                <a:moveTo>
                  <a:pt x="15280" y="12526"/>
                </a:moveTo>
                <a:cubicBezTo>
                  <a:pt x="15531" y="12699"/>
                  <a:pt x="15747" y="12670"/>
                  <a:pt x="15999" y="12452"/>
                </a:cubicBezTo>
                <a:cubicBezTo>
                  <a:pt x="16267" y="12221"/>
                  <a:pt x="16287" y="12093"/>
                  <a:pt x="16297" y="11782"/>
                </a:cubicBezTo>
                <a:cubicBezTo>
                  <a:pt x="15901" y="11594"/>
                  <a:pt x="15288" y="11392"/>
                  <a:pt x="15106" y="12005"/>
                </a:cubicBezTo>
                <a:cubicBezTo>
                  <a:pt x="15129" y="12318"/>
                  <a:pt x="15112" y="12410"/>
                  <a:pt x="15304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40320" y="3214800"/>
            <a:ext cx="874800" cy="608040"/>
          </a:xfrm>
          <a:custGeom>
            <a:avLst/>
            <a:gdLst/>
            <a:ahLst/>
            <a:rect l="l" t="t" r="r" b="b"/>
            <a:pathLst>
              <a:path w="2432" h="1687">
                <a:moveTo>
                  <a:pt x="17611" y="9004"/>
                </a:moveTo>
                <a:cubicBezTo>
                  <a:pt x="17786" y="8975"/>
                  <a:pt x="17822" y="8984"/>
                  <a:pt x="17983" y="9054"/>
                </a:cubicBezTo>
                <a:cubicBezTo>
                  <a:pt x="17972" y="9298"/>
                  <a:pt x="17915" y="9377"/>
                  <a:pt x="17661" y="9376"/>
                </a:cubicBezTo>
                <a:cubicBezTo>
                  <a:pt x="17734" y="9231"/>
                  <a:pt x="17831" y="9276"/>
                  <a:pt x="17983" y="9351"/>
                </a:cubicBezTo>
              </a:path>
              <a:path w="2432" h="1687">
                <a:moveTo>
                  <a:pt x="18207" y="8954"/>
                </a:moveTo>
                <a:cubicBezTo>
                  <a:pt x="18142" y="9115"/>
                  <a:pt x="18134" y="9382"/>
                  <a:pt x="18430" y="9277"/>
                </a:cubicBezTo>
                <a:cubicBezTo>
                  <a:pt x="18723" y="9173"/>
                  <a:pt x="18479" y="9016"/>
                  <a:pt x="18355" y="8954"/>
                </a:cubicBezTo>
              </a:path>
              <a:path w="2432" h="1687">
                <a:moveTo>
                  <a:pt x="18876" y="9153"/>
                </a:moveTo>
                <a:cubicBezTo>
                  <a:pt x="18909" y="9161"/>
                  <a:pt x="18943" y="9170"/>
                  <a:pt x="18976" y="9178"/>
                </a:cubicBezTo>
              </a:path>
              <a:path w="2432" h="1687">
                <a:moveTo>
                  <a:pt x="19348" y="8979"/>
                </a:moveTo>
                <a:cubicBezTo>
                  <a:pt x="19428" y="9129"/>
                  <a:pt x="19412" y="9098"/>
                  <a:pt x="19596" y="9079"/>
                </a:cubicBezTo>
              </a:path>
              <a:path w="2432" h="1687">
                <a:moveTo>
                  <a:pt x="19596" y="8930"/>
                </a:moveTo>
                <a:cubicBezTo>
                  <a:pt x="19643" y="9119"/>
                  <a:pt x="19658" y="9176"/>
                  <a:pt x="19670" y="9302"/>
                </a:cubicBezTo>
              </a:path>
              <a:path w="2432" h="1687">
                <a:moveTo>
                  <a:pt x="18901" y="9649"/>
                </a:moveTo>
                <a:cubicBezTo>
                  <a:pt x="18939" y="9823"/>
                  <a:pt x="18997" y="9997"/>
                  <a:pt x="19025" y="10170"/>
                </a:cubicBezTo>
              </a:path>
              <a:path w="2432" h="1687">
                <a:moveTo>
                  <a:pt x="19174" y="9674"/>
                </a:moveTo>
                <a:cubicBezTo>
                  <a:pt x="19196" y="9762"/>
                  <a:pt x="19253" y="10023"/>
                  <a:pt x="19372" y="10046"/>
                </a:cubicBezTo>
                <a:cubicBezTo>
                  <a:pt x="19495" y="10070"/>
                  <a:pt x="19523" y="9950"/>
                  <a:pt x="19546" y="9872"/>
                </a:cubicBezTo>
                <a:cubicBezTo>
                  <a:pt x="19448" y="9909"/>
                  <a:pt x="19458" y="9937"/>
                  <a:pt x="19422" y="10046"/>
                </a:cubicBezTo>
              </a:path>
              <a:path w="2432" h="1687">
                <a:moveTo>
                  <a:pt x="18876" y="10443"/>
                </a:moveTo>
                <a:cubicBezTo>
                  <a:pt x="19173" y="10443"/>
                  <a:pt x="19586" y="10407"/>
                  <a:pt x="19844" y="10220"/>
                </a:cubicBezTo>
                <a:cubicBezTo>
                  <a:pt x="19977" y="10064"/>
                  <a:pt x="20019" y="10029"/>
                  <a:pt x="20042" y="9897"/>
                </a:cubicBezTo>
                <a:cubicBezTo>
                  <a:pt x="19821" y="9634"/>
                  <a:pt x="19456" y="9531"/>
                  <a:pt x="19100" y="9649"/>
                </a:cubicBezTo>
                <a:cubicBezTo>
                  <a:pt x="18571" y="9825"/>
                  <a:pt x="18403" y="10217"/>
                  <a:pt x="18604" y="106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61040" y="4268880"/>
            <a:ext cx="1617840" cy="374400"/>
          </a:xfrm>
          <a:custGeom>
            <a:avLst/>
            <a:gdLst/>
            <a:ahLst/>
            <a:rect l="l" t="t" r="r" b="b"/>
            <a:pathLst>
              <a:path w="4491" h="1042">
                <a:moveTo>
                  <a:pt x="17314" y="12427"/>
                </a:moveTo>
                <a:cubicBezTo>
                  <a:pt x="17340" y="12551"/>
                  <a:pt x="17362" y="12675"/>
                  <a:pt x="17388" y="12799"/>
                </a:cubicBezTo>
              </a:path>
              <a:path w="4491" h="1042">
                <a:moveTo>
                  <a:pt x="17214" y="12675"/>
                </a:moveTo>
                <a:cubicBezTo>
                  <a:pt x="17338" y="12626"/>
                  <a:pt x="17380" y="12610"/>
                  <a:pt x="17462" y="12576"/>
                </a:cubicBezTo>
              </a:path>
              <a:path w="4491" h="1042">
                <a:moveTo>
                  <a:pt x="17363" y="12502"/>
                </a:moveTo>
                <a:cubicBezTo>
                  <a:pt x="17251" y="12681"/>
                  <a:pt x="17220" y="12727"/>
                  <a:pt x="17165" y="12849"/>
                </a:cubicBezTo>
              </a:path>
              <a:path w="4491" h="1042">
                <a:moveTo>
                  <a:pt x="17115" y="12477"/>
                </a:moveTo>
                <a:cubicBezTo>
                  <a:pt x="17320" y="12570"/>
                  <a:pt x="17529" y="12638"/>
                  <a:pt x="17735" y="12725"/>
                </a:cubicBezTo>
              </a:path>
              <a:path w="4491" h="1042">
                <a:moveTo>
                  <a:pt x="18107" y="12179"/>
                </a:moveTo>
                <a:cubicBezTo>
                  <a:pt x="18132" y="12229"/>
                  <a:pt x="18140" y="12245"/>
                  <a:pt x="18157" y="12278"/>
                </a:cubicBezTo>
                <a:cubicBezTo>
                  <a:pt x="18142" y="12212"/>
                  <a:pt x="18067" y="11998"/>
                  <a:pt x="17959" y="12030"/>
                </a:cubicBezTo>
                <a:cubicBezTo>
                  <a:pt x="17752" y="12092"/>
                  <a:pt x="17720" y="12530"/>
                  <a:pt x="18008" y="12526"/>
                </a:cubicBezTo>
                <a:cubicBezTo>
                  <a:pt x="18082" y="12501"/>
                  <a:pt x="18157" y="12477"/>
                  <a:pt x="18231" y="12452"/>
                </a:cubicBezTo>
              </a:path>
              <a:path w="4491" h="1042">
                <a:moveTo>
                  <a:pt x="18380" y="12005"/>
                </a:moveTo>
                <a:cubicBezTo>
                  <a:pt x="18398" y="12137"/>
                  <a:pt x="18419" y="12270"/>
                  <a:pt x="18430" y="12402"/>
                </a:cubicBezTo>
                <a:cubicBezTo>
                  <a:pt x="18435" y="12346"/>
                  <a:pt x="18447" y="11991"/>
                  <a:pt x="18604" y="12105"/>
                </a:cubicBezTo>
                <a:cubicBezTo>
                  <a:pt x="18684" y="12239"/>
                  <a:pt x="18712" y="12292"/>
                  <a:pt x="18728" y="12402"/>
                </a:cubicBezTo>
              </a:path>
              <a:path w="4491" h="1042">
                <a:moveTo>
                  <a:pt x="19000" y="12129"/>
                </a:moveTo>
                <a:cubicBezTo>
                  <a:pt x="18959" y="12207"/>
                  <a:pt x="18880" y="12563"/>
                  <a:pt x="19075" y="12328"/>
                </a:cubicBezTo>
                <a:cubicBezTo>
                  <a:pt x="19214" y="12161"/>
                  <a:pt x="19044" y="12288"/>
                  <a:pt x="19273" y="12353"/>
                </a:cubicBezTo>
              </a:path>
              <a:path w="4491" h="1042">
                <a:moveTo>
                  <a:pt x="19323" y="11857"/>
                </a:moveTo>
                <a:cubicBezTo>
                  <a:pt x="19351" y="12033"/>
                  <a:pt x="19372" y="12169"/>
                  <a:pt x="19447" y="12328"/>
                </a:cubicBezTo>
              </a:path>
              <a:path w="4491" h="1042">
                <a:moveTo>
                  <a:pt x="19645" y="11956"/>
                </a:moveTo>
                <a:cubicBezTo>
                  <a:pt x="19690" y="12156"/>
                  <a:pt x="19699" y="12208"/>
                  <a:pt x="19745" y="12328"/>
                </a:cubicBezTo>
              </a:path>
              <a:path w="4491" h="1042">
                <a:moveTo>
                  <a:pt x="20092" y="12080"/>
                </a:moveTo>
                <a:cubicBezTo>
                  <a:pt x="20187" y="12056"/>
                  <a:pt x="20222" y="12051"/>
                  <a:pt x="20141" y="11981"/>
                </a:cubicBezTo>
                <a:cubicBezTo>
                  <a:pt x="20028" y="12030"/>
                  <a:pt x="19773" y="12296"/>
                  <a:pt x="20092" y="12303"/>
                </a:cubicBezTo>
                <a:cubicBezTo>
                  <a:pt x="20293" y="12307"/>
                  <a:pt x="20413" y="12022"/>
                  <a:pt x="20414" y="12055"/>
                </a:cubicBezTo>
                <a:cubicBezTo>
                  <a:pt x="20414" y="12187"/>
                  <a:pt x="20414" y="12220"/>
                  <a:pt x="20414" y="12303"/>
                </a:cubicBezTo>
                <a:cubicBezTo>
                  <a:pt x="20447" y="12179"/>
                  <a:pt x="20470" y="12108"/>
                  <a:pt x="20538" y="12005"/>
                </a:cubicBezTo>
                <a:cubicBezTo>
                  <a:pt x="20604" y="12107"/>
                  <a:pt x="20646" y="12189"/>
                  <a:pt x="20687" y="12303"/>
                </a:cubicBezTo>
              </a:path>
              <a:path w="4491" h="1042">
                <a:moveTo>
                  <a:pt x="21034" y="12005"/>
                </a:moveTo>
                <a:cubicBezTo>
                  <a:pt x="20990" y="12031"/>
                  <a:pt x="20702" y="12329"/>
                  <a:pt x="20910" y="12303"/>
                </a:cubicBezTo>
                <a:cubicBezTo>
                  <a:pt x="20997" y="12246"/>
                  <a:pt x="21028" y="12216"/>
                  <a:pt x="21034" y="12129"/>
                </a:cubicBezTo>
                <a:cubicBezTo>
                  <a:pt x="21042" y="12113"/>
                  <a:pt x="21051" y="12096"/>
                  <a:pt x="21059" y="12080"/>
                </a:cubicBezTo>
                <a:cubicBezTo>
                  <a:pt x="21119" y="12339"/>
                  <a:pt x="21220" y="12577"/>
                  <a:pt x="21208" y="12849"/>
                </a:cubicBezTo>
                <a:cubicBezTo>
                  <a:pt x="21186" y="12892"/>
                  <a:pt x="21183" y="12913"/>
                  <a:pt x="21158" y="12874"/>
                </a:cubicBezTo>
              </a:path>
              <a:path w="4491" h="1042">
                <a:moveTo>
                  <a:pt x="21307" y="12254"/>
                </a:moveTo>
                <a:cubicBezTo>
                  <a:pt x="21399" y="12208"/>
                  <a:pt x="21476" y="12168"/>
                  <a:pt x="21555" y="12105"/>
                </a:cubicBezTo>
                <a:cubicBezTo>
                  <a:pt x="21472" y="12100"/>
                  <a:pt x="21068" y="12214"/>
                  <a:pt x="21307" y="12353"/>
                </a:cubicBezTo>
                <a:cubicBezTo>
                  <a:pt x="21464" y="12376"/>
                  <a:pt x="21505" y="12384"/>
                  <a:pt x="21605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98720" y="3375000"/>
            <a:ext cx="15228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3324" y="9376"/>
                </a:moveTo>
                <a:cubicBezTo>
                  <a:pt x="3324" y="9531"/>
                  <a:pt x="3284" y="9467"/>
                  <a:pt x="3150" y="9500"/>
                </a:cubicBezTo>
                <a:cubicBezTo>
                  <a:pt x="3049" y="9525"/>
                  <a:pt x="3058" y="9717"/>
                  <a:pt x="3051" y="9798"/>
                </a:cubicBezTo>
                <a:cubicBezTo>
                  <a:pt x="3150" y="9744"/>
                  <a:pt x="3369" y="9579"/>
                  <a:pt x="3473" y="9723"/>
                </a:cubicBezTo>
                <a:cubicBezTo>
                  <a:pt x="3626" y="9935"/>
                  <a:pt x="3225" y="9971"/>
                  <a:pt x="3150" y="99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3340080"/>
            <a:ext cx="61920" cy="285840"/>
          </a:xfrm>
          <a:custGeom>
            <a:avLst/>
            <a:gdLst/>
            <a:ahLst/>
            <a:rect l="l" t="t" r="r" b="b"/>
            <a:pathLst>
              <a:path w="174" h="795">
                <a:moveTo>
                  <a:pt x="3621" y="9277"/>
                </a:moveTo>
                <a:cubicBezTo>
                  <a:pt x="3587" y="9524"/>
                  <a:pt x="3576" y="9744"/>
                  <a:pt x="3696" y="9971"/>
                </a:cubicBezTo>
                <a:cubicBezTo>
                  <a:pt x="3721" y="10004"/>
                  <a:pt x="3745" y="10038"/>
                  <a:pt x="3770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84200" y="3394080"/>
            <a:ext cx="71640" cy="123840"/>
          </a:xfrm>
          <a:custGeom>
            <a:avLst/>
            <a:gdLst/>
            <a:ahLst/>
            <a:rect l="l" t="t" r="r" b="b"/>
            <a:pathLst>
              <a:path w="199" h="348">
                <a:moveTo>
                  <a:pt x="3845" y="9426"/>
                </a:moveTo>
                <a:cubicBezTo>
                  <a:pt x="3934" y="9509"/>
                  <a:pt x="4112" y="9669"/>
                  <a:pt x="3919" y="9773"/>
                </a:cubicBezTo>
                <a:cubicBezTo>
                  <a:pt x="3894" y="9773"/>
                  <a:pt x="3870" y="9773"/>
                  <a:pt x="3845" y="9773"/>
                </a:cubicBezTo>
                <a:cubicBezTo>
                  <a:pt x="3845" y="9645"/>
                  <a:pt x="3935" y="9705"/>
                  <a:pt x="4043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09840" y="3348000"/>
            <a:ext cx="125280" cy="13500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4192" y="9426"/>
                </a:moveTo>
                <a:cubicBezTo>
                  <a:pt x="4215" y="9594"/>
                  <a:pt x="4328" y="9850"/>
                  <a:pt x="4514" y="9575"/>
                </a:cubicBezTo>
                <a:cubicBezTo>
                  <a:pt x="4626" y="9410"/>
                  <a:pt x="4439" y="9356"/>
                  <a:pt x="4341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52760" y="3313080"/>
            <a:ext cx="115560" cy="196920"/>
          </a:xfrm>
          <a:custGeom>
            <a:avLst/>
            <a:gdLst/>
            <a:ahLst/>
            <a:rect l="l" t="t" r="r" b="b"/>
            <a:pathLst>
              <a:path w="323" h="546">
                <a:moveTo>
                  <a:pt x="4589" y="9203"/>
                </a:moveTo>
                <a:cubicBezTo>
                  <a:pt x="4849" y="9436"/>
                  <a:pt x="4872" y="9416"/>
                  <a:pt x="4862" y="97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57200" y="3795840"/>
            <a:ext cx="27000" cy="115920"/>
          </a:xfrm>
          <a:custGeom>
            <a:avLst/>
            <a:gdLst/>
            <a:ahLst/>
            <a:rect l="l" t="t" r="r" b="b"/>
            <a:pathLst>
              <a:path w="76" h="323">
                <a:moveTo>
                  <a:pt x="3770" y="10542"/>
                </a:moveTo>
                <a:cubicBezTo>
                  <a:pt x="3817" y="10706"/>
                  <a:pt x="3832" y="10754"/>
                  <a:pt x="3845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6120" y="3741840"/>
            <a:ext cx="152640" cy="133200"/>
          </a:xfrm>
          <a:custGeom>
            <a:avLst/>
            <a:gdLst/>
            <a:ahLst/>
            <a:rect l="l" t="t" r="r" b="b"/>
            <a:pathLst>
              <a:path w="423" h="373">
                <a:moveTo>
                  <a:pt x="4018" y="10517"/>
                </a:moveTo>
                <a:cubicBezTo>
                  <a:pt x="4081" y="10716"/>
                  <a:pt x="4243" y="10919"/>
                  <a:pt x="4415" y="10616"/>
                </a:cubicBezTo>
                <a:cubicBezTo>
                  <a:pt x="4580" y="10326"/>
                  <a:pt x="4234" y="10447"/>
                  <a:pt x="4142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33680" y="3687840"/>
            <a:ext cx="161640" cy="117360"/>
          </a:xfrm>
          <a:custGeom>
            <a:avLst/>
            <a:gdLst/>
            <a:ahLst/>
            <a:rect l="l" t="t" r="r" b="b"/>
            <a:pathLst>
              <a:path w="448" h="324">
                <a:moveTo>
                  <a:pt x="4564" y="10269"/>
                </a:moveTo>
                <a:cubicBezTo>
                  <a:pt x="4564" y="10425"/>
                  <a:pt x="4624" y="10674"/>
                  <a:pt x="4862" y="10542"/>
                </a:cubicBezTo>
                <a:cubicBezTo>
                  <a:pt x="5097" y="10412"/>
                  <a:pt x="4982" y="10332"/>
                  <a:pt x="4862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8080" y="3633840"/>
            <a:ext cx="911160" cy="617400"/>
          </a:xfrm>
          <a:custGeom>
            <a:avLst/>
            <a:gdLst/>
            <a:ahLst/>
            <a:rect l="l" t="t" r="r" b="b"/>
            <a:pathLst>
              <a:path w="2531" h="1712">
                <a:moveTo>
                  <a:pt x="3770" y="11385"/>
                </a:moveTo>
                <a:cubicBezTo>
                  <a:pt x="4194" y="11285"/>
                  <a:pt x="4623" y="11198"/>
                  <a:pt x="5011" y="10988"/>
                </a:cubicBezTo>
                <a:cubicBezTo>
                  <a:pt x="5369" y="10794"/>
                  <a:pt x="5568" y="10633"/>
                  <a:pt x="5581" y="10244"/>
                </a:cubicBezTo>
                <a:cubicBezTo>
                  <a:pt x="5100" y="10018"/>
                  <a:pt x="4688" y="10140"/>
                  <a:pt x="4192" y="10368"/>
                </a:cubicBezTo>
                <a:cubicBezTo>
                  <a:pt x="3831" y="10534"/>
                  <a:pt x="2751" y="11083"/>
                  <a:pt x="3076" y="11683"/>
                </a:cubicBezTo>
                <a:cubicBezTo>
                  <a:pt x="3167" y="11724"/>
                  <a:pt x="3258" y="11766"/>
                  <a:pt x="3349" y="118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59120" y="3017880"/>
            <a:ext cx="71640" cy="169920"/>
          </a:xfrm>
          <a:custGeom>
            <a:avLst/>
            <a:gdLst/>
            <a:ahLst/>
            <a:rect l="l" t="t" r="r" b="b"/>
            <a:pathLst>
              <a:path w="199" h="472">
                <a:moveTo>
                  <a:pt x="10443" y="8384"/>
                </a:moveTo>
                <a:cubicBezTo>
                  <a:pt x="10505" y="8544"/>
                  <a:pt x="10568" y="8700"/>
                  <a:pt x="10641" y="88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67120" y="3009960"/>
            <a:ext cx="187200" cy="160200"/>
          </a:xfrm>
          <a:custGeom>
            <a:avLst/>
            <a:gdLst/>
            <a:ahLst/>
            <a:rect l="l" t="t" r="r" b="b"/>
            <a:pathLst>
              <a:path w="522" h="448">
                <a:moveTo>
                  <a:pt x="10740" y="8409"/>
                </a:moveTo>
                <a:cubicBezTo>
                  <a:pt x="10897" y="8386"/>
                  <a:pt x="11215" y="8428"/>
                  <a:pt x="11112" y="8706"/>
                </a:cubicBezTo>
                <a:cubicBezTo>
                  <a:pt x="11042" y="8894"/>
                  <a:pt x="10859" y="8794"/>
                  <a:pt x="10740" y="8756"/>
                </a:cubicBezTo>
                <a:cubicBezTo>
                  <a:pt x="10892" y="8575"/>
                  <a:pt x="11014" y="8587"/>
                  <a:pt x="11212" y="8731"/>
                </a:cubicBezTo>
                <a:cubicBezTo>
                  <a:pt x="11228" y="8748"/>
                  <a:pt x="11245" y="8764"/>
                  <a:pt x="11261" y="87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79960" y="3044880"/>
            <a:ext cx="44280" cy="108000"/>
          </a:xfrm>
          <a:custGeom>
            <a:avLst/>
            <a:gdLst/>
            <a:ahLst/>
            <a:rect l="l" t="t" r="r" b="b"/>
            <a:pathLst>
              <a:path w="125" h="299">
                <a:moveTo>
                  <a:pt x="11609" y="8458"/>
                </a:moveTo>
                <a:cubicBezTo>
                  <a:pt x="11635" y="8562"/>
                  <a:pt x="11683" y="8657"/>
                  <a:pt x="11733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70240" y="3071880"/>
            <a:ext cx="36720" cy="9360"/>
          </a:xfrm>
          <a:custGeom>
            <a:avLst/>
            <a:gdLst/>
            <a:ahLst/>
            <a:rect l="l" t="t" r="r" b="b"/>
            <a:pathLst>
              <a:path w="100" h="26">
                <a:moveTo>
                  <a:pt x="11584" y="8558"/>
                </a:moveTo>
                <a:cubicBezTo>
                  <a:pt x="11617" y="8550"/>
                  <a:pt x="11650" y="8541"/>
                  <a:pt x="11683" y="85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13160" y="2990880"/>
            <a:ext cx="169920" cy="13500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12303" y="8384"/>
                </a:moveTo>
                <a:cubicBezTo>
                  <a:pt x="12304" y="8251"/>
                  <a:pt x="12080" y="8297"/>
                  <a:pt x="12005" y="8409"/>
                </a:cubicBezTo>
                <a:cubicBezTo>
                  <a:pt x="11997" y="8450"/>
                  <a:pt x="11989" y="8492"/>
                  <a:pt x="11981" y="8533"/>
                </a:cubicBezTo>
                <a:cubicBezTo>
                  <a:pt x="12173" y="8587"/>
                  <a:pt x="12210" y="8499"/>
                  <a:pt x="12328" y="8334"/>
                </a:cubicBezTo>
                <a:cubicBezTo>
                  <a:pt x="12345" y="8470"/>
                  <a:pt x="12385" y="8565"/>
                  <a:pt x="12452" y="86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89240" y="3375000"/>
            <a:ext cx="152640" cy="196920"/>
          </a:xfrm>
          <a:custGeom>
            <a:avLst/>
            <a:gdLst/>
            <a:ahLst/>
            <a:rect l="l" t="t" r="r" b="b"/>
            <a:pathLst>
              <a:path w="422" h="547">
                <a:moveTo>
                  <a:pt x="11485" y="9426"/>
                </a:moveTo>
                <a:cubicBezTo>
                  <a:pt x="11587" y="9349"/>
                  <a:pt x="11748" y="9415"/>
                  <a:pt x="11757" y="9575"/>
                </a:cubicBezTo>
                <a:cubicBezTo>
                  <a:pt x="11771" y="9820"/>
                  <a:pt x="11530" y="9921"/>
                  <a:pt x="11361" y="9872"/>
                </a:cubicBezTo>
                <a:cubicBezTo>
                  <a:pt x="11506" y="9726"/>
                  <a:pt x="11583" y="9753"/>
                  <a:pt x="11782" y="97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95880" y="3384720"/>
            <a:ext cx="61920" cy="125280"/>
          </a:xfrm>
          <a:custGeom>
            <a:avLst/>
            <a:gdLst/>
            <a:ahLst/>
            <a:rect l="l" t="t" r="r" b="b"/>
            <a:pathLst>
              <a:path w="175" h="348">
                <a:moveTo>
                  <a:pt x="11931" y="9401"/>
                </a:moveTo>
                <a:cubicBezTo>
                  <a:pt x="11989" y="9517"/>
                  <a:pt x="12047" y="9632"/>
                  <a:pt x="12105" y="97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38760" y="3286080"/>
            <a:ext cx="579240" cy="393840"/>
          </a:xfrm>
          <a:custGeom>
            <a:avLst/>
            <a:gdLst/>
            <a:ahLst/>
            <a:rect l="l" t="t" r="r" b="b"/>
            <a:pathLst>
              <a:path w="1613" h="1093">
                <a:moveTo>
                  <a:pt x="11361" y="10195"/>
                </a:moveTo>
                <a:cubicBezTo>
                  <a:pt x="11715" y="10195"/>
                  <a:pt x="12134" y="10152"/>
                  <a:pt x="12402" y="9872"/>
                </a:cubicBezTo>
                <a:cubicBezTo>
                  <a:pt x="12548" y="9629"/>
                  <a:pt x="12598" y="9551"/>
                  <a:pt x="12551" y="9351"/>
                </a:cubicBezTo>
                <a:cubicBezTo>
                  <a:pt x="11978" y="9010"/>
                  <a:pt x="11520" y="9162"/>
                  <a:pt x="11063" y="9723"/>
                </a:cubicBezTo>
                <a:cubicBezTo>
                  <a:pt x="10674" y="10200"/>
                  <a:pt x="11220" y="10141"/>
                  <a:pt x="11485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68280" y="5037120"/>
            <a:ext cx="88920" cy="133200"/>
          </a:xfrm>
          <a:custGeom>
            <a:avLst/>
            <a:gdLst/>
            <a:ahLst/>
            <a:rect l="l" t="t" r="r" b="b"/>
            <a:pathLst>
              <a:path w="249" h="373">
                <a:moveTo>
                  <a:pt x="3770" y="13990"/>
                </a:moveTo>
                <a:cubicBezTo>
                  <a:pt x="3643" y="13990"/>
                  <a:pt x="3597" y="13966"/>
                  <a:pt x="3547" y="14089"/>
                </a:cubicBezTo>
                <a:cubicBezTo>
                  <a:pt x="3525" y="14154"/>
                  <a:pt x="3517" y="14169"/>
                  <a:pt x="3522" y="14213"/>
                </a:cubicBezTo>
                <a:cubicBezTo>
                  <a:pt x="3629" y="14165"/>
                  <a:pt x="3753" y="14090"/>
                  <a:pt x="3770" y="14263"/>
                </a:cubicBezTo>
                <a:cubicBezTo>
                  <a:pt x="3781" y="14374"/>
                  <a:pt x="3645" y="14341"/>
                  <a:pt x="3597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19120" y="5018040"/>
            <a:ext cx="46080" cy="90360"/>
          </a:xfrm>
          <a:custGeom>
            <a:avLst/>
            <a:gdLst/>
            <a:ahLst/>
            <a:rect l="l" t="t" r="r" b="b"/>
            <a:pathLst>
              <a:path w="125" h="249">
                <a:moveTo>
                  <a:pt x="3969" y="13940"/>
                </a:moveTo>
                <a:cubicBezTo>
                  <a:pt x="3958" y="14037"/>
                  <a:pt x="3912" y="14081"/>
                  <a:pt x="3994" y="14139"/>
                </a:cubicBezTo>
                <a:cubicBezTo>
                  <a:pt x="4019" y="14155"/>
                  <a:pt x="4043" y="14172"/>
                  <a:pt x="4068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00120" y="5000760"/>
            <a:ext cx="9720" cy="196560"/>
          </a:xfrm>
          <a:custGeom>
            <a:avLst/>
            <a:gdLst/>
            <a:ahLst/>
            <a:rect l="l" t="t" r="r" b="b"/>
            <a:pathLst>
              <a:path w="26" h="546">
                <a:moveTo>
                  <a:pt x="4192" y="13891"/>
                </a:moveTo>
                <a:cubicBezTo>
                  <a:pt x="4174" y="14074"/>
                  <a:pt x="4167" y="14251"/>
                  <a:pt x="4167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52760" y="5018040"/>
            <a:ext cx="17280" cy="142920"/>
          </a:xfrm>
          <a:custGeom>
            <a:avLst/>
            <a:gdLst/>
            <a:ahLst/>
            <a:rect l="l" t="t" r="r" b="b"/>
            <a:pathLst>
              <a:path w="50" h="398">
                <a:moveTo>
                  <a:pt x="4638" y="13940"/>
                </a:moveTo>
                <a:cubicBezTo>
                  <a:pt x="4617" y="14072"/>
                  <a:pt x="4602" y="14204"/>
                  <a:pt x="4589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8120" y="5106960"/>
            <a:ext cx="34920" cy="9720"/>
          </a:xfrm>
          <a:custGeom>
            <a:avLst/>
            <a:gdLst/>
            <a:ahLst/>
            <a:rect l="l" t="t" r="r" b="b"/>
            <a:pathLst>
              <a:path w="100" h="26">
                <a:moveTo>
                  <a:pt x="4465" y="14213"/>
                </a:moveTo>
                <a:cubicBezTo>
                  <a:pt x="4498" y="14205"/>
                  <a:pt x="4531" y="14196"/>
                  <a:pt x="4564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60680" y="5126040"/>
            <a:ext cx="80640" cy="17640"/>
          </a:xfrm>
          <a:custGeom>
            <a:avLst/>
            <a:gdLst/>
            <a:ahLst/>
            <a:rect l="l" t="t" r="r" b="b"/>
            <a:pathLst>
              <a:path w="224" h="51">
                <a:moveTo>
                  <a:pt x="4614" y="14288"/>
                </a:moveTo>
                <a:cubicBezTo>
                  <a:pt x="4700" y="14259"/>
                  <a:pt x="4737" y="14238"/>
                  <a:pt x="4837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0880" y="5027760"/>
            <a:ext cx="152280" cy="169560"/>
          </a:xfrm>
          <a:custGeom>
            <a:avLst/>
            <a:gdLst/>
            <a:ahLst/>
            <a:rect l="l" t="t" r="r" b="b"/>
            <a:pathLst>
              <a:path w="423" h="472">
                <a:moveTo>
                  <a:pt x="5432" y="14064"/>
                </a:moveTo>
                <a:cubicBezTo>
                  <a:pt x="5386" y="13909"/>
                  <a:pt x="5200" y="13923"/>
                  <a:pt x="5085" y="14064"/>
                </a:cubicBezTo>
                <a:cubicBezTo>
                  <a:pt x="5077" y="14097"/>
                  <a:pt x="5068" y="14130"/>
                  <a:pt x="5060" y="14163"/>
                </a:cubicBezTo>
                <a:cubicBezTo>
                  <a:pt x="5262" y="14163"/>
                  <a:pt x="5405" y="13949"/>
                  <a:pt x="5457" y="14139"/>
                </a:cubicBezTo>
                <a:cubicBezTo>
                  <a:pt x="5478" y="14304"/>
                  <a:pt x="5486" y="14336"/>
                  <a:pt x="5482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81120" y="5402160"/>
            <a:ext cx="142920" cy="196920"/>
          </a:xfrm>
          <a:custGeom>
            <a:avLst/>
            <a:gdLst/>
            <a:ahLst/>
            <a:rect l="l" t="t" r="r" b="b"/>
            <a:pathLst>
              <a:path w="398" h="547">
                <a:moveTo>
                  <a:pt x="4390" y="15007"/>
                </a:moveTo>
                <a:cubicBezTo>
                  <a:pt x="4390" y="15192"/>
                  <a:pt x="4400" y="15349"/>
                  <a:pt x="4440" y="15528"/>
                </a:cubicBezTo>
                <a:cubicBezTo>
                  <a:pt x="4652" y="15528"/>
                  <a:pt x="4693" y="15455"/>
                  <a:pt x="4787" y="15255"/>
                </a:cubicBezTo>
                <a:cubicBezTo>
                  <a:pt x="4654" y="15305"/>
                  <a:pt x="4654" y="15418"/>
                  <a:pt x="4663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85960" y="5411880"/>
            <a:ext cx="108000" cy="187200"/>
          </a:xfrm>
          <a:custGeom>
            <a:avLst/>
            <a:gdLst/>
            <a:ahLst/>
            <a:rect l="l" t="t" r="r" b="b"/>
            <a:pathLst>
              <a:path w="299" h="522">
                <a:moveTo>
                  <a:pt x="4961" y="15056"/>
                </a:moveTo>
                <a:cubicBezTo>
                  <a:pt x="5216" y="15025"/>
                  <a:pt x="5163" y="15102"/>
                  <a:pt x="5011" y="15255"/>
                </a:cubicBezTo>
                <a:cubicBezTo>
                  <a:pt x="5186" y="15231"/>
                  <a:pt x="5390" y="15285"/>
                  <a:pt x="5159" y="15478"/>
                </a:cubicBezTo>
                <a:cubicBezTo>
                  <a:pt x="5110" y="15503"/>
                  <a:pt x="5060" y="15528"/>
                  <a:pt x="5011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4840" y="5340240"/>
            <a:ext cx="689040" cy="411120"/>
          </a:xfrm>
          <a:custGeom>
            <a:avLst/>
            <a:gdLst/>
            <a:ahLst/>
            <a:rect l="l" t="t" r="r" b="b"/>
            <a:pathLst>
              <a:path w="1911" h="1142">
                <a:moveTo>
                  <a:pt x="4266" y="15949"/>
                </a:moveTo>
                <a:cubicBezTo>
                  <a:pt x="4700" y="15925"/>
                  <a:pt x="5162" y="15914"/>
                  <a:pt x="5531" y="15652"/>
                </a:cubicBezTo>
                <a:cubicBezTo>
                  <a:pt x="5799" y="15462"/>
                  <a:pt x="5822" y="15046"/>
                  <a:pt x="5482" y="14908"/>
                </a:cubicBezTo>
                <a:cubicBezTo>
                  <a:pt x="5099" y="14752"/>
                  <a:pt x="4433" y="14751"/>
                  <a:pt x="4118" y="15056"/>
                </a:cubicBezTo>
                <a:cubicBezTo>
                  <a:pt x="3643" y="15515"/>
                  <a:pt x="3789" y="15788"/>
                  <a:pt x="4266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65960" y="4964040"/>
            <a:ext cx="125280" cy="127080"/>
          </a:xfrm>
          <a:custGeom>
            <a:avLst/>
            <a:gdLst/>
            <a:ahLst/>
            <a:rect l="l" t="t" r="r" b="b"/>
            <a:pathLst>
              <a:path w="348" h="349">
                <a:moveTo>
                  <a:pt x="18033" y="13791"/>
                </a:moveTo>
                <a:cubicBezTo>
                  <a:pt x="17995" y="13859"/>
                  <a:pt x="17860" y="14112"/>
                  <a:pt x="18033" y="14139"/>
                </a:cubicBezTo>
                <a:cubicBezTo>
                  <a:pt x="18184" y="14114"/>
                  <a:pt x="18236" y="14104"/>
                  <a:pt x="18306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4880" y="4946760"/>
            <a:ext cx="1440" cy="206280"/>
          </a:xfrm>
          <a:custGeom>
            <a:avLst/>
            <a:gdLst/>
            <a:ahLst/>
            <a:rect l="l" t="t" r="r" b="b"/>
            <a:pathLst>
              <a:path w="1" h="571">
                <a:moveTo>
                  <a:pt x="18207" y="13742"/>
                </a:moveTo>
                <a:cubicBezTo>
                  <a:pt x="18207" y="13932"/>
                  <a:pt x="18207" y="14122"/>
                  <a:pt x="18207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5037120"/>
            <a:ext cx="27000" cy="7920"/>
          </a:xfrm>
          <a:custGeom>
            <a:avLst/>
            <a:gdLst/>
            <a:ahLst/>
            <a:rect l="l" t="t" r="r" b="b"/>
            <a:pathLst>
              <a:path w="75" h="26">
                <a:moveTo>
                  <a:pt x="18579" y="13990"/>
                </a:moveTo>
                <a:cubicBezTo>
                  <a:pt x="18604" y="13998"/>
                  <a:pt x="18628" y="14007"/>
                  <a:pt x="18653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40360" y="5000760"/>
            <a:ext cx="81000" cy="125280"/>
          </a:xfrm>
          <a:custGeom>
            <a:avLst/>
            <a:gdLst/>
            <a:ahLst/>
            <a:rect l="l" t="t" r="r" b="b"/>
            <a:pathLst>
              <a:path w="225" h="348">
                <a:moveTo>
                  <a:pt x="19000" y="13891"/>
                </a:moveTo>
                <a:cubicBezTo>
                  <a:pt x="19070" y="13891"/>
                  <a:pt x="19272" y="13852"/>
                  <a:pt x="19224" y="13990"/>
                </a:cubicBezTo>
                <a:cubicBezTo>
                  <a:pt x="19155" y="14191"/>
                  <a:pt x="18845" y="14248"/>
                  <a:pt x="19224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26200" y="4973760"/>
            <a:ext cx="61920" cy="108000"/>
          </a:xfrm>
          <a:custGeom>
            <a:avLst/>
            <a:gdLst/>
            <a:ahLst/>
            <a:rect l="l" t="t" r="r" b="b"/>
            <a:pathLst>
              <a:path w="175" h="299">
                <a:moveTo>
                  <a:pt x="19794" y="13816"/>
                </a:moveTo>
                <a:cubicBezTo>
                  <a:pt x="19838" y="13942"/>
                  <a:pt x="19881" y="14013"/>
                  <a:pt x="19968" y="141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26200" y="4973760"/>
            <a:ext cx="44640" cy="117360"/>
          </a:xfrm>
          <a:custGeom>
            <a:avLst/>
            <a:gdLst/>
            <a:ahLst/>
            <a:rect l="l" t="t" r="r" b="b"/>
            <a:pathLst>
              <a:path w="125" h="324">
                <a:moveTo>
                  <a:pt x="19918" y="13816"/>
                </a:moveTo>
                <a:cubicBezTo>
                  <a:pt x="19848" y="13980"/>
                  <a:pt x="19827" y="14028"/>
                  <a:pt x="19794" y="141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48680" y="4956120"/>
            <a:ext cx="98280" cy="160560"/>
          </a:xfrm>
          <a:custGeom>
            <a:avLst/>
            <a:gdLst/>
            <a:ahLst/>
            <a:rect l="l" t="t" r="r" b="b"/>
            <a:pathLst>
              <a:path w="274" h="447">
                <a:moveTo>
                  <a:pt x="20414" y="13791"/>
                </a:moveTo>
                <a:cubicBezTo>
                  <a:pt x="20528" y="13766"/>
                  <a:pt x="20683" y="13717"/>
                  <a:pt x="20687" y="13891"/>
                </a:cubicBezTo>
                <a:cubicBezTo>
                  <a:pt x="20689" y="13994"/>
                  <a:pt x="20647" y="14110"/>
                  <a:pt x="20638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00920" y="5143680"/>
            <a:ext cx="349200" cy="160200"/>
          </a:xfrm>
          <a:custGeom>
            <a:avLst/>
            <a:gdLst/>
            <a:ahLst/>
            <a:rect l="l" t="t" r="r" b="b"/>
            <a:pathLst>
              <a:path w="968" h="447">
                <a:moveTo>
                  <a:pt x="19496" y="14461"/>
                </a:moveTo>
                <a:cubicBezTo>
                  <a:pt x="19460" y="14582"/>
                  <a:pt x="19447" y="14607"/>
                  <a:pt x="19447" y="14734"/>
                </a:cubicBezTo>
                <a:cubicBezTo>
                  <a:pt x="19722" y="14703"/>
                  <a:pt x="19984" y="14664"/>
                  <a:pt x="20265" y="14660"/>
                </a:cubicBezTo>
                <a:cubicBezTo>
                  <a:pt x="20496" y="14657"/>
                  <a:pt x="20389" y="14504"/>
                  <a:pt x="20389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26200" y="5402160"/>
            <a:ext cx="17640" cy="189000"/>
          </a:xfrm>
          <a:custGeom>
            <a:avLst/>
            <a:gdLst/>
            <a:ahLst/>
            <a:rect l="l" t="t" r="r" b="b"/>
            <a:pathLst>
              <a:path w="51" h="522">
                <a:moveTo>
                  <a:pt x="19819" y="15007"/>
                </a:moveTo>
                <a:cubicBezTo>
                  <a:pt x="19803" y="15182"/>
                  <a:pt x="19805" y="15358"/>
                  <a:pt x="19844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2760" y="5446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092" y="15131"/>
                </a:moveTo>
                <a:lnTo>
                  <a:pt x="20092" y="1513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05760" y="5446800"/>
            <a:ext cx="117360" cy="63360"/>
          </a:xfrm>
          <a:custGeom>
            <a:avLst/>
            <a:gdLst/>
            <a:ahLst/>
            <a:rect l="l" t="t" r="r" b="b"/>
            <a:pathLst>
              <a:path w="324" h="174">
                <a:moveTo>
                  <a:pt x="20092" y="15131"/>
                </a:moveTo>
                <a:cubicBezTo>
                  <a:pt x="20033" y="15229"/>
                  <a:pt x="19994" y="15244"/>
                  <a:pt x="20042" y="15304"/>
                </a:cubicBezTo>
                <a:cubicBezTo>
                  <a:pt x="20149" y="15298"/>
                  <a:pt x="20239" y="15289"/>
                  <a:pt x="20340" y="152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04040" y="5375160"/>
            <a:ext cx="9720" cy="223920"/>
          </a:xfrm>
          <a:custGeom>
            <a:avLst/>
            <a:gdLst/>
            <a:ahLst/>
            <a:rect l="l" t="t" r="r" b="b"/>
            <a:pathLst>
              <a:path w="26" h="622">
                <a:moveTo>
                  <a:pt x="20315" y="14932"/>
                </a:moveTo>
                <a:cubicBezTo>
                  <a:pt x="20288" y="15143"/>
                  <a:pt x="20278" y="15345"/>
                  <a:pt x="20315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43800" y="5527800"/>
            <a:ext cx="9828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18479" y="15354"/>
                </a:moveTo>
                <a:cubicBezTo>
                  <a:pt x="18470" y="15452"/>
                  <a:pt x="18401" y="15622"/>
                  <a:pt x="18579" y="15602"/>
                </a:cubicBezTo>
                <a:cubicBezTo>
                  <a:pt x="18629" y="15586"/>
                  <a:pt x="18678" y="15569"/>
                  <a:pt x="18728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50000" y="5518080"/>
            <a:ext cx="9720" cy="1620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18752" y="15329"/>
                </a:moveTo>
                <a:cubicBezTo>
                  <a:pt x="18766" y="15483"/>
                  <a:pt x="18777" y="15621"/>
                  <a:pt x="18777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29280" y="5562720"/>
            <a:ext cx="81000" cy="9360"/>
          </a:xfrm>
          <a:custGeom>
            <a:avLst/>
            <a:gdLst/>
            <a:ahLst/>
            <a:rect l="l" t="t" r="r" b="b"/>
            <a:pathLst>
              <a:path w="225" h="26">
                <a:moveTo>
                  <a:pt x="19248" y="15453"/>
                </a:moveTo>
                <a:cubicBezTo>
                  <a:pt x="19357" y="15453"/>
                  <a:pt x="19399" y="15455"/>
                  <a:pt x="19472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23080" y="5911920"/>
            <a:ext cx="115920" cy="17280"/>
          </a:xfrm>
          <a:custGeom>
            <a:avLst/>
            <a:gdLst/>
            <a:ahLst/>
            <a:rect l="l" t="t" r="r" b="b"/>
            <a:pathLst>
              <a:path w="323" h="50">
                <a:moveTo>
                  <a:pt x="18951" y="16421"/>
                </a:moveTo>
                <a:cubicBezTo>
                  <a:pt x="19061" y="16438"/>
                  <a:pt x="19166" y="16448"/>
                  <a:pt x="19273" y="164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83280" y="5796000"/>
            <a:ext cx="44640" cy="196920"/>
          </a:xfrm>
          <a:custGeom>
            <a:avLst/>
            <a:gdLst/>
            <a:ahLst/>
            <a:rect l="l" t="t" r="r" b="b"/>
            <a:pathLst>
              <a:path w="125" h="547">
                <a:moveTo>
                  <a:pt x="19397" y="16098"/>
                </a:moveTo>
                <a:cubicBezTo>
                  <a:pt x="19457" y="16279"/>
                  <a:pt x="19505" y="16453"/>
                  <a:pt x="19521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43840" y="5840280"/>
            <a:ext cx="142920" cy="152640"/>
          </a:xfrm>
          <a:custGeom>
            <a:avLst/>
            <a:gdLst/>
            <a:ahLst/>
            <a:rect l="l" t="t" r="r" b="b"/>
            <a:pathLst>
              <a:path w="398" h="423">
                <a:moveTo>
                  <a:pt x="19918" y="16222"/>
                </a:moveTo>
                <a:cubicBezTo>
                  <a:pt x="19828" y="16418"/>
                  <a:pt x="19811" y="16490"/>
                  <a:pt x="19943" y="16644"/>
                </a:cubicBezTo>
                <a:cubicBezTo>
                  <a:pt x="20073" y="16602"/>
                  <a:pt x="20402" y="16463"/>
                  <a:pt x="20166" y="16272"/>
                </a:cubicBezTo>
                <a:cubicBezTo>
                  <a:pt x="20024" y="16224"/>
                  <a:pt x="19982" y="16205"/>
                  <a:pt x="19893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53160" y="5769000"/>
            <a:ext cx="874800" cy="411120"/>
          </a:xfrm>
          <a:custGeom>
            <a:avLst/>
            <a:gdLst/>
            <a:ahLst/>
            <a:rect l="l" t="t" r="r" b="b"/>
            <a:pathLst>
              <a:path w="2432" h="1142">
                <a:moveTo>
                  <a:pt x="19050" y="17090"/>
                </a:moveTo>
                <a:cubicBezTo>
                  <a:pt x="19401" y="17156"/>
                  <a:pt x="19761" y="17190"/>
                  <a:pt x="20117" y="17115"/>
                </a:cubicBezTo>
                <a:cubicBezTo>
                  <a:pt x="20492" y="17036"/>
                  <a:pt x="20653" y="16877"/>
                  <a:pt x="20910" y="16619"/>
                </a:cubicBezTo>
                <a:cubicBezTo>
                  <a:pt x="20752" y="16193"/>
                  <a:pt x="20309" y="16108"/>
                  <a:pt x="19869" y="16049"/>
                </a:cubicBezTo>
                <a:cubicBezTo>
                  <a:pt x="19454" y="15993"/>
                  <a:pt x="18642" y="15912"/>
                  <a:pt x="18479" y="16446"/>
                </a:cubicBezTo>
                <a:cubicBezTo>
                  <a:pt x="18342" y="16896"/>
                  <a:pt x="18736" y="16957"/>
                  <a:pt x="19025" y="170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1932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pg. 9    2-22 even numbered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040" y="2108160"/>
            <a:ext cx="455760" cy="293760"/>
          </a:xfrm>
          <a:custGeom>
            <a:avLst/>
            <a:gdLst/>
            <a:ahLst/>
            <a:rect l="l" t="t" r="r" b="b"/>
            <a:pathLst>
              <a:path w="1266" h="819">
                <a:moveTo>
                  <a:pt x="1315" y="6251"/>
                </a:moveTo>
                <a:cubicBezTo>
                  <a:pt x="1514" y="6222"/>
                  <a:pt x="1728" y="6267"/>
                  <a:pt x="1935" y="6276"/>
                </a:cubicBezTo>
                <a:cubicBezTo>
                  <a:pt x="2111" y="6284"/>
                  <a:pt x="2281" y="6251"/>
                  <a:pt x="2456" y="6251"/>
                </a:cubicBezTo>
                <a:cubicBezTo>
                  <a:pt x="2464" y="6251"/>
                  <a:pt x="2472" y="6251"/>
                  <a:pt x="2480" y="6251"/>
                </a:cubicBezTo>
              </a:path>
              <a:path w="1266" h="819">
                <a:moveTo>
                  <a:pt x="2059" y="5854"/>
                </a:moveTo>
                <a:cubicBezTo>
                  <a:pt x="2160" y="5972"/>
                  <a:pt x="2265" y="6048"/>
                  <a:pt x="2381" y="6152"/>
                </a:cubicBezTo>
                <a:cubicBezTo>
                  <a:pt x="2455" y="6219"/>
                  <a:pt x="2499" y="6275"/>
                  <a:pt x="2580" y="6325"/>
                </a:cubicBezTo>
                <a:cubicBezTo>
                  <a:pt x="2503" y="6446"/>
                  <a:pt x="2434" y="6547"/>
                  <a:pt x="2332" y="6648"/>
                </a:cubicBezTo>
                <a:cubicBezTo>
                  <a:pt x="2324" y="6656"/>
                  <a:pt x="2315" y="6664"/>
                  <a:pt x="2307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2:28:15Z</dcterms:created>
  <dc:creator>Brian McGrath</dc:creator>
  <dc:description/>
  <dc:language>en-US</dc:language>
  <cp:lastModifiedBy>deanne elizabeth mcgrath</cp:lastModifiedBy>
  <dcterms:modified xsi:type="dcterms:W3CDTF">2010-09-20T17:41:02Z</dcterms:modified>
  <cp:revision>5</cp:revision>
  <dc:subject/>
  <dc:title>Warm-up:</dc:title>
</cp:coreProperties>
</file>